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79B1-F84D-45B8-B0A7-4E208A73BD5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9F33-0A0A-4AF4-8A0F-0C0A6BC9B41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4F34-849B-493E-AD8B-35C0453E84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EB36-5E5D-4F35-A7B5-4292FAAC31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2376-1E46-4F33-B7A0-DB52134296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A6CF-84D0-4C7F-BE63-15E6DD52DB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436D-73B8-4734-B396-272BDA9701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BED5-5F27-4613-8E12-266A73E596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F5B4-CC1B-4773-9FE5-22A3DA9844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7FBC-A180-4A3A-A060-38000D6D0D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DEC0-005D-4BDB-99A2-EBAAFB5A5B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66075-A28F-4522-A15F-CDA782E70C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5ED3-D686-4747-AAF8-4AB7B27F21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A4EE-74AC-42F0-BE83-0FACB6AE02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art-com.co.kr/online/ppt_gallery_1.htm" TargetMode="External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blue"/>
          <p:cNvPicPr/>
          <p:nvPr/>
        </p:nvPicPr>
        <p:blipFill>
          <a:blip r:embed="rId2"/>
          <a:stretch/>
        </p:blipFill>
        <p:spPr>
          <a:xfrm>
            <a:off x="-9360" y="1989000"/>
            <a:ext cx="9162720" cy="4873680"/>
          </a:xfrm>
          <a:prstGeom prst="rect">
            <a:avLst/>
          </a:prstGeom>
          <a:ln w="0">
            <a:noFill/>
          </a:ln>
        </p:spPr>
      </p:pic>
      <p:sp>
        <p:nvSpPr>
          <p:cNvPr id="1" name="Freeform 5"/>
          <p:cNvSpPr/>
          <p:nvPr/>
        </p:nvSpPr>
        <p:spPr>
          <a:xfrm>
            <a:off x="-9360" y="0"/>
            <a:ext cx="9181800" cy="6891480"/>
          </a:xfrm>
          <a:prstGeom prst="pi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0" y="5950080"/>
            <a:ext cx="3924360" cy="676080"/>
          </a:xfrm>
          <a:prstGeom prst="pie">
            <a:avLst/>
          </a:prstGeom>
          <a:solidFill>
            <a:srgbClr val="ff66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611280" y="5516640"/>
            <a:ext cx="8550360" cy="898560"/>
          </a:xfrm>
          <a:prstGeom prst="pi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Freeform 8"/>
          <p:cNvSpPr/>
          <p:nvPr/>
        </p:nvSpPr>
        <p:spPr>
          <a:xfrm>
            <a:off x="2843280" y="5950080"/>
            <a:ext cx="6327720" cy="620640"/>
          </a:xfrm>
          <a:prstGeom prst="pie">
            <a:avLst/>
          </a:prstGeom>
          <a:solidFill>
            <a:srgbClr val="66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Text Box 9">
            <a:hlinkClick r:id="rId3"/>
          </p:cNvPr>
          <p:cNvSpPr/>
          <p:nvPr/>
        </p:nvSpPr>
        <p:spPr>
          <a:xfrm>
            <a:off x="300600" y="6564240"/>
            <a:ext cx="1410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굴림"/>
              </a:rPr>
              <a:t>43</a:t>
            </a:r>
            <a:r>
              <a:rPr b="1" lang="ko-KR" sz="1500" spc="-1" strike="noStrike">
                <a:solidFill>
                  <a:srgbClr val="969696"/>
                </a:solidFill>
                <a:latin typeface="굴림"/>
              </a:rPr>
              <a:t>차 정기대의원대회</a:t>
            </a:r>
            <a:endParaRPr b="1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Rectangle 10">
            <a:hlinkClick r:id="rId4"/>
          </p:cNvPr>
          <p:cNvSpPr/>
          <p:nvPr/>
        </p:nvSpPr>
        <p:spPr>
          <a:xfrm>
            <a:off x="7496280" y="6599160"/>
            <a:ext cx="1676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www.nodong.org</a:t>
            </a:r>
            <a:endParaRPr b="1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Line 11"/>
          <p:cNvSpPr/>
          <p:nvPr/>
        </p:nvSpPr>
        <p:spPr>
          <a:xfrm>
            <a:off x="-9360" y="6553080"/>
            <a:ext cx="91440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Line 1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" name="Picture 14" descr="민주노총-로고02"/>
          <p:cNvPicPr/>
          <p:nvPr/>
        </p:nvPicPr>
        <p:blipFill>
          <a:blip r:embed="rId5"/>
          <a:stretch/>
        </p:blipFill>
        <p:spPr>
          <a:xfrm>
            <a:off x="7740720" y="453960"/>
            <a:ext cx="1314360" cy="23832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7067a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7067af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lue"/>
          <p:cNvPicPr/>
          <p:nvPr/>
        </p:nvPicPr>
        <p:blipFill>
          <a:blip r:embed="rId2"/>
          <a:stretch/>
        </p:blipFill>
        <p:spPr>
          <a:xfrm>
            <a:off x="-9360" y="1989000"/>
            <a:ext cx="9162720" cy="4873680"/>
          </a:xfrm>
          <a:prstGeom prst="rect">
            <a:avLst/>
          </a:prstGeom>
          <a:ln w="0">
            <a:noFill/>
          </a:ln>
        </p:spPr>
      </p:pic>
      <p:sp>
        <p:nvSpPr>
          <p:cNvPr id="49" name="Freeform 5"/>
          <p:cNvSpPr/>
          <p:nvPr/>
        </p:nvSpPr>
        <p:spPr>
          <a:xfrm>
            <a:off x="-9360" y="0"/>
            <a:ext cx="9162720" cy="4033800"/>
          </a:xfrm>
          <a:prstGeom prst="pi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-36360" y="3429000"/>
            <a:ext cx="3460680" cy="666720"/>
          </a:xfrm>
          <a:prstGeom prst="pie">
            <a:avLst/>
          </a:prstGeom>
          <a:solidFill>
            <a:srgbClr val="ff66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108000" y="2790720"/>
            <a:ext cx="9053640" cy="1224000"/>
          </a:xfrm>
          <a:prstGeom prst="pi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1974960" y="3392640"/>
            <a:ext cx="7196040" cy="1207800"/>
          </a:xfrm>
          <a:prstGeom prst="pie">
            <a:avLst/>
          </a:prstGeom>
          <a:solidFill>
            <a:srgbClr val="66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781440" y="3300480"/>
            <a:ext cx="5389560" cy="776160"/>
          </a:xfrm>
          <a:prstGeom prst="pi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" name="Picture 10" descr="민주노총-로고02"/>
          <p:cNvPicPr/>
          <p:nvPr/>
        </p:nvPicPr>
        <p:blipFill>
          <a:blip r:embed="rId3"/>
          <a:stretch/>
        </p:blipFill>
        <p:spPr>
          <a:xfrm>
            <a:off x="7740720" y="103320"/>
            <a:ext cx="1314360" cy="2379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379400" y="6628320"/>
            <a:ext cx="685800" cy="2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0A94-AB47-4AD0-9C8D-1FA9715735CF}" type="slidenum">
              <a:rPr b="0" lang="en-US" sz="8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0" y="1341360"/>
            <a:ext cx="9144000" cy="1079640"/>
          </a:xfrm>
          <a:prstGeom prst="rect">
            <a:avLst/>
          </a:prstGeom>
          <a:solidFill>
            <a:srgbClr val="c68d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950920" y="1471680"/>
            <a:ext cx="3097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99"/>
                </a:solidFill>
                <a:latin typeface="HY견고딕"/>
                <a:ea typeface="HY견고딕"/>
              </a:rPr>
              <a:t>2008</a:t>
            </a:r>
            <a:r>
              <a:rPr b="0" lang="ko-KR" sz="5000" spc="-1" strike="noStrike">
                <a:solidFill>
                  <a:srgbClr val="336699"/>
                </a:solidFill>
                <a:latin typeface="HY견고딕"/>
                <a:ea typeface="HY견고딕"/>
              </a:rPr>
              <a:t>년 정세</a:t>
            </a:r>
            <a:endParaRPr b="1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712800" y="2714760"/>
            <a:ext cx="77468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HY산B"/>
                <a:ea typeface="HY산B"/>
              </a:rPr>
              <a:t>함께하는 투쟁</a:t>
            </a:r>
            <a:r>
              <a:rPr b="1" lang="en-US" sz="3600" spc="-1" strike="noStrike">
                <a:solidFill>
                  <a:srgbClr val="000000"/>
                </a:solidFill>
                <a:latin typeface="HY산B"/>
                <a:ea typeface="HY산B"/>
              </a:rPr>
              <a:t>! </a:t>
            </a:r>
            <a:r>
              <a:rPr b="1" lang="ko-KR" sz="3600" spc="-1" strike="noStrike">
                <a:solidFill>
                  <a:srgbClr val="000000"/>
                </a:solidFill>
                <a:latin typeface="HY산B"/>
                <a:ea typeface="HY산B"/>
              </a:rPr>
              <a:t>승리하는 민주노총</a:t>
            </a:r>
            <a:r>
              <a:rPr b="1" lang="en-US" sz="3600" spc="-1" strike="noStrike">
                <a:solidFill>
                  <a:srgbClr val="000000"/>
                </a:solidFill>
                <a:latin typeface="HY산B"/>
                <a:ea typeface="HY산B"/>
              </a:rPr>
              <a:t>!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HY산B"/>
                <a:ea typeface="HY산B"/>
              </a:rPr>
              <a:t>동원에서 참여로</a:t>
            </a:r>
            <a:r>
              <a:rPr b="1" lang="en-US" sz="2800" spc="-1" strike="noStrike">
                <a:solidFill>
                  <a:srgbClr val="000000"/>
                </a:solidFill>
                <a:latin typeface="HY산B"/>
                <a:ea typeface="HY산B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산B"/>
                <a:ea typeface="HY산B"/>
              </a:rPr>
              <a:t>교육이 조직이고 </a:t>
            </a:r>
            <a:r>
              <a:rPr b="1" lang="en-US" sz="2000" spc="-1" strike="noStrike">
                <a:solidFill>
                  <a:srgbClr val="000000"/>
                </a:solidFill>
                <a:latin typeface="HY산B"/>
                <a:ea typeface="HY산B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산B"/>
                <a:ea typeface="HY산B"/>
              </a:rPr>
              <a:t>선전도 투쟁이다</a:t>
            </a:r>
            <a:r>
              <a:rPr b="1" lang="en-US" sz="2000" spc="-1" strike="noStrike">
                <a:solidFill>
                  <a:srgbClr val="000000"/>
                </a:solidFill>
                <a:latin typeface="HY산B"/>
                <a:ea typeface="HY산B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555840" y="907920"/>
            <a:ext cx="16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반노조주의 정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22"/>
          <p:cNvSpPr/>
          <p:nvPr/>
        </p:nvSpPr>
        <p:spPr>
          <a:xfrm>
            <a:off x="5429160" y="1571760"/>
            <a:ext cx="35006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노사분규가 심한 기업의 노동자가 봉사자 같은 기분으로 자세를 바꾸면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0%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성장이 어렵겠느냐”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부심이 없는 사람들이나 스스로를 노동자라 부르고 노동조합을 만든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교수노조는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프라이드도 없는 한심한 집단”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외국기업도 강성노조 때문에 한국 투자를 기피하고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7%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경제성장을 내세웠는데 이런 노사환경에서 가능할지 의문이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”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반기업정서는 상당히 문제가 있다고 생각한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멍가게에서 두 명만 고용하더라도 기업하는 사람은 애국자라고 생각한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%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성장은 무파업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법질서 준수로 가능할 것”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4" name="_x33903576" descr="EMB0000091c574f"/>
          <p:cNvPicPr/>
          <p:nvPr/>
        </p:nvPicPr>
        <p:blipFill>
          <a:blip r:embed="rId1"/>
          <a:stretch/>
        </p:blipFill>
        <p:spPr>
          <a:xfrm>
            <a:off x="0" y="1623960"/>
            <a:ext cx="5357880" cy="490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528840" y="907920"/>
            <a:ext cx="15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친미보수 정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22"/>
          <p:cNvSpPr/>
          <p:nvPr/>
        </p:nvSpPr>
        <p:spPr>
          <a:xfrm>
            <a:off x="571680" y="1428840"/>
            <a:ext cx="52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미국은 행동 대 행동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명박은 선핵폐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?"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2" name="_x51078536" descr="DRW0000056446c9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1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559080" y="907920"/>
            <a:ext cx="26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008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년 정세 </a:t>
            </a: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노동정세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9" name="_x97496168" descr="EMB0000091c5758"/>
          <p:cNvPicPr/>
          <p:nvPr/>
        </p:nvPicPr>
        <p:blipFill>
          <a:blip r:embed="rId1"/>
          <a:stretch/>
        </p:blipFill>
        <p:spPr>
          <a:xfrm>
            <a:off x="0" y="1928880"/>
            <a:ext cx="4572000" cy="4645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E:\2008정세\민생파탄.jpg"/>
          <p:cNvPicPr/>
          <p:nvPr/>
        </p:nvPicPr>
        <p:blipFill>
          <a:blip r:embed="rId2"/>
          <a:stretch/>
        </p:blipFill>
        <p:spPr>
          <a:xfrm>
            <a:off x="4572000" y="1911240"/>
            <a:ext cx="4572000" cy="46087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22"/>
          <p:cNvSpPr/>
          <p:nvPr/>
        </p:nvSpPr>
        <p:spPr>
          <a:xfrm>
            <a:off x="4929120" y="1071720"/>
            <a:ext cx="3857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정규직을 둘러싼 대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공부문 사유화 공세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민주노총 고립화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탄압 강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한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FTA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준과 신자유주의식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FTA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확산 정책 강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559080" y="907920"/>
            <a:ext cx="26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008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년 정세 </a:t>
            </a: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치정세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22"/>
          <p:cNvSpPr/>
          <p:nvPr/>
        </p:nvSpPr>
        <p:spPr>
          <a:xfrm>
            <a:off x="214200" y="1428840"/>
            <a:ext cx="385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명박정권의 신자유주의 정책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발독재식 정책강행과 사회적 대립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갈등 고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357800" y="1571760"/>
          <a:ext cx="4786200" cy="4714920"/>
        </p:xfrm>
        <a:graphic>
          <a:graphicData uri="http://schemas.openxmlformats.org/drawingml/2006/table">
            <a:tbl>
              <a:tblPr/>
              <a:tblGrid>
                <a:gridCol w="4786200"/>
              </a:tblGrid>
              <a:tr h="4714920"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돋움"/>
                        </a:rPr>
                        <a:t>•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돋움"/>
                        </a:rPr>
                        <a:t>비정규직문제를 둘러싼 노정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돋움"/>
                        </a:rPr>
                        <a:t>-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돋움"/>
                        </a:rPr>
                        <a:t>노사대결 격화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60000"/>
                        </a:lnSpc>
                        <a:buClr>
                          <a:srgbClr val="000000"/>
                        </a:buClr>
                        <a:buFont typeface="휴먼명조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돋움"/>
                        </a:rPr>
                        <a:t>•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돋움"/>
                        </a:rPr>
                        <a:t>사회공공성 및 빈부격차를 둘러싼 공방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60000"/>
                        </a:lnSpc>
                        <a:buClr>
                          <a:srgbClr val="000000"/>
                        </a:buClr>
                        <a:buFont typeface="휴먼명조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돋움"/>
                        </a:rPr>
                        <a:t>•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돋움"/>
                        </a:rPr>
                        <a:t>노사관계에서 고립과 배제전략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60000"/>
                        </a:lnSpc>
                        <a:buClr>
                          <a:srgbClr val="000000"/>
                        </a:buClr>
                        <a:buFont typeface="휴먼명조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돋움"/>
                        </a:rPr>
                        <a:t>•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돋움"/>
                        </a:rPr>
                        <a:t>한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돋움"/>
                        </a:rPr>
                        <a:t>FTA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돋움"/>
                        </a:rPr>
                        <a:t>비준과 기업위주의 신자유주의 정책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60000"/>
                        </a:lnSpc>
                        <a:buClr>
                          <a:srgbClr val="000000"/>
                        </a:buClr>
                        <a:buFont typeface="휴먼명조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돋움"/>
                        </a:rPr>
                        <a:t>•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돋움"/>
                        </a:rPr>
                        <a:t>한반도평화 실현을 둘러싼 대립 심화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0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559080" y="907920"/>
            <a:ext cx="26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008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년 정세 </a:t>
            </a: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노동정세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8" name="_x97096552" descr="EMB0000091c5759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2941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2"/>
          <p:cNvSpPr/>
          <p:nvPr/>
        </p:nvSpPr>
        <p:spPr>
          <a:xfrm>
            <a:off x="428760" y="1500120"/>
            <a:ext cx="84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회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시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파업 등 기본적 시민권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노동기본권에 대한 제약과 대립 격화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505080" y="907920"/>
            <a:ext cx="23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008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년 정세 </a:t>
            </a: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총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22"/>
          <p:cNvSpPr/>
          <p:nvPr/>
        </p:nvSpPr>
        <p:spPr>
          <a:xfrm>
            <a:off x="5715000" y="2000160"/>
            <a:ext cx="32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8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대 총선은 한나라당의 압승이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저지냐를 둘러싼 공방”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7" name="Picture 11" descr="E:\2008정세\8a1203b.jpg"/>
          <p:cNvPicPr/>
          <p:nvPr/>
        </p:nvPicPr>
        <p:blipFill>
          <a:blip r:embed="rId1"/>
          <a:stretch/>
        </p:blipFill>
        <p:spPr>
          <a:xfrm>
            <a:off x="0" y="1571760"/>
            <a:ext cx="5568840" cy="4962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635760" y="907920"/>
            <a:ext cx="35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008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년 정세 </a:t>
            </a: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–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제정세</a:t>
            </a: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국제경제</a:t>
            </a: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TextBox 22"/>
          <p:cNvSpPr/>
          <p:nvPr/>
        </p:nvSpPr>
        <p:spPr>
          <a:xfrm>
            <a:off x="1928880" y="1500120"/>
            <a:ext cx="50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미국경제의 위기 가능성이 높아지고 있다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6" name="_x83862408" descr="EMB000009d864f1"/>
          <p:cNvPicPr/>
          <p:nvPr/>
        </p:nvPicPr>
        <p:blipFill>
          <a:blip r:embed="rId1"/>
          <a:stretch/>
        </p:blipFill>
        <p:spPr>
          <a:xfrm>
            <a:off x="0" y="2428920"/>
            <a:ext cx="5143680" cy="35002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3"/>
          <p:cNvSpPr/>
          <p:nvPr/>
        </p:nvSpPr>
        <p:spPr>
          <a:xfrm>
            <a:off x="5286240" y="2333520"/>
            <a:ext cx="364356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월스트리트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신들의 경고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'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미경제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잔치는 끝장났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"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투자고수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가혹한 전망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잇따라 내놔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도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중국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권 등으로 이미 발빠르게 이동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짐 로저스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"2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차대전 이후 최악 침체 온다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"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조지 소로스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"60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년 만의 최대 위기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"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워런 버핏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부실채권 회복 수년 걸릴 듯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"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빌 그로스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금리 인하는 美경제 슬픈 고백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"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조선일보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. 2008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일 기사 중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635760" y="907920"/>
            <a:ext cx="35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008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년 정세 </a:t>
            </a: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–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제정세</a:t>
            </a: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국경제</a:t>
            </a: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TextBox 22"/>
          <p:cNvSpPr/>
          <p:nvPr/>
        </p:nvSpPr>
        <p:spPr>
          <a:xfrm>
            <a:off x="5000760" y="142884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서민생활 어떻게 될까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?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7" name="_x83841312" descr="EMB000009d864ee"/>
          <p:cNvPicPr/>
          <p:nvPr/>
        </p:nvPicPr>
        <p:blipFill>
          <a:blip r:embed="rId1"/>
          <a:stretch/>
        </p:blipFill>
        <p:spPr>
          <a:xfrm>
            <a:off x="3643200" y="2071800"/>
            <a:ext cx="5500800" cy="4478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E:\2008정세\수출고용유발계수.jpg"/>
          <p:cNvPicPr/>
          <p:nvPr/>
        </p:nvPicPr>
        <p:blipFill>
          <a:blip r:embed="rId2"/>
          <a:stretch/>
        </p:blipFill>
        <p:spPr>
          <a:xfrm>
            <a:off x="0" y="3382920"/>
            <a:ext cx="3643200" cy="31338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4"/>
          <p:cNvSpPr/>
          <p:nvPr/>
        </p:nvSpPr>
        <p:spPr>
          <a:xfrm>
            <a:off x="357120" y="178596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성장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%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물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-4%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금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5-6%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경상수지 적자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724680" y="90792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008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년 정세 </a:t>
            </a: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–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반도 정세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TextBox 22"/>
          <p:cNvSpPr/>
          <p:nvPr/>
        </p:nvSpPr>
        <p:spPr>
          <a:xfrm>
            <a:off x="142920" y="171468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중대한 고비를 맞고 있는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북미 핵 대결전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9" name="Picture 3" descr="E:\2008정세\0103_2-2010corea.jpg"/>
          <p:cNvPicPr/>
          <p:nvPr/>
        </p:nvPicPr>
        <p:blipFill>
          <a:blip r:embed="rId1"/>
          <a:stretch/>
        </p:blipFill>
        <p:spPr>
          <a:xfrm>
            <a:off x="0" y="2714760"/>
            <a:ext cx="3110040" cy="38336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16"/>
          <p:cNvSpPr/>
          <p:nvPr/>
        </p:nvSpPr>
        <p:spPr>
          <a:xfrm>
            <a:off x="3500280" y="257184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남북관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새로운 국면을 향한 진통”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1" name="_x83830120" descr="EMB000009d864ed"/>
          <p:cNvPicPr/>
          <p:nvPr/>
        </p:nvPicPr>
        <p:blipFill>
          <a:blip r:embed="rId2"/>
          <a:stretch/>
        </p:blipFill>
        <p:spPr>
          <a:xfrm>
            <a:off x="3071880" y="3429000"/>
            <a:ext cx="3606840" cy="25002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3" name="_x83846688" descr="EMB000009d864ec"/>
          <p:cNvPicPr/>
          <p:nvPr/>
        </p:nvPicPr>
        <p:blipFill>
          <a:blip r:embed="rId3"/>
          <a:stretch/>
        </p:blipFill>
        <p:spPr>
          <a:xfrm>
            <a:off x="6643800" y="3051000"/>
            <a:ext cx="2500200" cy="35211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8"/>
          <p:cNvSpPr/>
          <p:nvPr/>
        </p:nvSpPr>
        <p:spPr>
          <a:xfrm>
            <a:off x="6715080" y="17146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미관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명박 정권의 적극적 한미동맹 강화정책”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Oval 68"/>
          <p:cNvSpPr/>
          <p:nvPr/>
        </p:nvSpPr>
        <p:spPr>
          <a:xfrm flipH="1">
            <a:off x="5118120" y="2517840"/>
            <a:ext cx="3449520" cy="19400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주체정세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Line 69"/>
          <p:cNvSpPr/>
          <p:nvPr/>
        </p:nvSpPr>
        <p:spPr>
          <a:xfrm flipH="1" flipV="1">
            <a:off x="6300360" y="1642680"/>
            <a:ext cx="684360" cy="849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Line 70"/>
          <p:cNvSpPr/>
          <p:nvPr/>
        </p:nvSpPr>
        <p:spPr>
          <a:xfrm flipH="1">
            <a:off x="5436720" y="4365720"/>
            <a:ext cx="574920" cy="404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Line 71"/>
          <p:cNvSpPr/>
          <p:nvPr/>
        </p:nvSpPr>
        <p:spPr>
          <a:xfrm flipH="1">
            <a:off x="4140360" y="3801960"/>
            <a:ext cx="1079280" cy="27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Line 72"/>
          <p:cNvSpPr/>
          <p:nvPr/>
        </p:nvSpPr>
        <p:spPr>
          <a:xfrm flipH="1" flipV="1">
            <a:off x="5148000" y="2349000"/>
            <a:ext cx="755640" cy="327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Line 73"/>
          <p:cNvSpPr/>
          <p:nvPr/>
        </p:nvSpPr>
        <p:spPr>
          <a:xfrm flipH="1" flipV="1">
            <a:off x="4642920" y="3141360"/>
            <a:ext cx="505080" cy="14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Line 74"/>
          <p:cNvSpPr/>
          <p:nvPr/>
        </p:nvSpPr>
        <p:spPr>
          <a:xfrm flipH="1">
            <a:off x="5867280" y="4508640"/>
            <a:ext cx="920880" cy="815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896560" y="-1653840"/>
            <a:ext cx="612720" cy="6048360"/>
          </a:xfrm>
          <a:prstGeom prst="cube">
            <a:avLst>
              <a:gd name="adj" fmla="val 16074"/>
            </a:avLst>
          </a:prstGeom>
          <a:solidFill>
            <a:srgbClr val="fff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현장의 동원대상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일상적 현장조직 강화사업 약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3049920" y="2553480"/>
            <a:ext cx="612720" cy="6173640"/>
          </a:xfrm>
          <a:prstGeom prst="cube">
            <a:avLst>
              <a:gd name="adj" fmla="val 16074"/>
            </a:avLst>
          </a:prstGeom>
          <a:solidFill>
            <a:srgbClr val="a3f25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대선패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총체적 혁신을 요구받고 있는 진보민중진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2332080" y="-179280"/>
            <a:ext cx="612720" cy="4775040"/>
          </a:xfrm>
          <a:prstGeom prst="cube">
            <a:avLst>
              <a:gd name="adj" fmla="val 16074"/>
            </a:avLst>
          </a:prstGeom>
          <a:solidFill>
            <a:srgbClr val="c68d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산별건설 사업 정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2508120" y="2265120"/>
            <a:ext cx="612720" cy="5099040"/>
          </a:xfrm>
          <a:prstGeom prst="cube">
            <a:avLst>
              <a:gd name="adj" fmla="val 16074"/>
            </a:avLst>
          </a:prstGeom>
          <a:solidFill>
            <a:srgbClr val="99cc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민주노조운동의 총적 발전 전략 요구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5400000">
            <a:off x="2067840" y="1035360"/>
            <a:ext cx="612720" cy="4246560"/>
          </a:xfrm>
          <a:prstGeom prst="cube">
            <a:avLst>
              <a:gd name="adj" fmla="val 16074"/>
            </a:avLst>
          </a:prstGeom>
          <a:solidFill>
            <a:srgbClr val="fda4b5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비정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미조직 사업 진척 미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1798200" y="2109600"/>
            <a:ext cx="612720" cy="3708360"/>
          </a:xfrm>
          <a:prstGeom prst="cube">
            <a:avLst>
              <a:gd name="adj" fmla="val 16074"/>
            </a:avLst>
          </a:prstGeom>
          <a:solidFill>
            <a:srgbClr val="cccc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혁신사업 교착상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714840" y="2071800"/>
            <a:ext cx="5130720" cy="581040"/>
          </a:xfrm>
          <a:prstGeom prst="rect">
            <a:avLst/>
          </a:prstGeom>
          <a:gradFill rotWithShape="0">
            <a:gsLst>
              <a:gs pos="0">
                <a:srgbClr val="c4c0de"/>
              </a:gs>
              <a:gs pos="100000">
                <a:srgbClr val="7067a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</a:rPr>
              <a:t>노골적 신자유주의 정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Line 5"/>
          <p:cNvSpPr/>
          <p:nvPr/>
        </p:nvSpPr>
        <p:spPr>
          <a:xfrm flipH="1">
            <a:off x="3201840" y="350028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Freeform 6"/>
          <p:cNvSpPr/>
          <p:nvPr/>
        </p:nvSpPr>
        <p:spPr>
          <a:xfrm>
            <a:off x="3500280" y="2357280"/>
            <a:ext cx="117720" cy="1571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44520" y="2968560"/>
            <a:ext cx="2917800" cy="1035000"/>
          </a:xfrm>
          <a:prstGeom prst="rect">
            <a:avLst/>
          </a:prstGeom>
          <a:gradFill rotWithShape="0">
            <a:gsLst>
              <a:gs pos="0">
                <a:srgbClr val="c4c0de"/>
              </a:gs>
              <a:gs pos="100000">
                <a:srgbClr val="7067a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명박 정권의 성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714840" y="2857680"/>
            <a:ext cx="5130720" cy="576000"/>
          </a:xfrm>
          <a:prstGeom prst="rect">
            <a:avLst/>
          </a:prstGeom>
          <a:gradFill rotWithShape="0">
            <a:gsLst>
              <a:gs pos="0">
                <a:srgbClr val="c4c0de"/>
              </a:gs>
              <a:gs pos="100000">
                <a:srgbClr val="7067a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</a:rPr>
              <a:t>개발독재식 성장주의 정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Freeform 12"/>
          <p:cNvSpPr/>
          <p:nvPr/>
        </p:nvSpPr>
        <p:spPr>
          <a:xfrm>
            <a:off x="3500280" y="3214800"/>
            <a:ext cx="142920" cy="1571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3714840" y="3643200"/>
            <a:ext cx="5130720" cy="571680"/>
          </a:xfrm>
          <a:prstGeom prst="rect">
            <a:avLst/>
          </a:prstGeom>
          <a:gradFill rotWithShape="0">
            <a:gsLst>
              <a:gs pos="0">
                <a:srgbClr val="c4c0de"/>
              </a:gs>
              <a:gs pos="100000">
                <a:srgbClr val="7067a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</a:rPr>
              <a:t>반노조주의 정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3714840" y="4429080"/>
            <a:ext cx="5130720" cy="598680"/>
          </a:xfrm>
          <a:prstGeom prst="rect">
            <a:avLst/>
          </a:prstGeom>
          <a:gradFill rotWithShape="0">
            <a:gsLst>
              <a:gs pos="0">
                <a:srgbClr val="c4c0de"/>
              </a:gs>
              <a:gs pos="100000">
                <a:srgbClr val="7067a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</a:rPr>
              <a:t>친미보수정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516600" y="9079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객관정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1000080"/>
            <a:ext cx="9144000" cy="1079640"/>
          </a:xfrm>
          <a:prstGeom prst="rect">
            <a:avLst/>
          </a:prstGeom>
          <a:solidFill>
            <a:srgbClr val="c68d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174400" y="1143000"/>
            <a:ext cx="491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336699"/>
                </a:solidFill>
                <a:latin typeface="HY목각파임B"/>
                <a:ea typeface="HY목각파임B"/>
              </a:rPr>
              <a:t>무엇을 어떻게 할 것인가</a:t>
            </a:r>
            <a:r>
              <a:rPr b="0" lang="en-US" sz="5000" spc="-1" strike="noStrike">
                <a:solidFill>
                  <a:srgbClr val="336699"/>
                </a:solidFill>
                <a:latin typeface="HY목각파임B"/>
                <a:ea typeface="HY목각파임B"/>
              </a:rPr>
              <a:t>?</a:t>
            </a:r>
            <a:endParaRPr b="1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1071720" y="2214720"/>
            <a:ext cx="72151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강B"/>
                <a:ea typeface="HY강B"/>
              </a:rPr>
              <a:t>● </a:t>
            </a:r>
            <a:r>
              <a:rPr b="1" lang="ko-KR" sz="2400" spc="-1" strike="noStrike">
                <a:solidFill>
                  <a:srgbClr val="000000"/>
                </a:solidFill>
                <a:latin typeface="HY강B"/>
                <a:ea typeface="HY강B"/>
              </a:rPr>
              <a:t>비정규직 요구의 해결 ↔ 정규직 중심의 동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강B"/>
                <a:ea typeface="HY강B"/>
              </a:rPr>
              <a:t>● </a:t>
            </a:r>
            <a:r>
              <a:rPr b="1" lang="ko-KR" sz="2400" spc="-1" strike="noStrike">
                <a:solidFill>
                  <a:srgbClr val="000000"/>
                </a:solidFill>
                <a:latin typeface="HY강B"/>
                <a:ea typeface="HY강B"/>
              </a:rPr>
              <a:t>비정규전선</a:t>
            </a:r>
            <a:r>
              <a:rPr b="1" lang="en-US" sz="2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HY강B"/>
                <a:ea typeface="HY강B"/>
              </a:rPr>
              <a:t>반초국적 자본에 대한 전선</a:t>
            </a:r>
            <a:r>
              <a:rPr b="1" lang="en-US" sz="2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HY강B"/>
                <a:ea typeface="HY강B"/>
              </a:rPr>
              <a:t>정치세력화를 위한 정치전선</a:t>
            </a:r>
            <a:r>
              <a:rPr b="1" lang="en-US" sz="2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HY강B"/>
                <a:ea typeface="HY강B"/>
              </a:rPr>
              <a:t>법</a:t>
            </a:r>
            <a:r>
              <a:rPr b="1" lang="en-US" sz="24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1" lang="ko-KR" sz="2400" spc="-1" strike="noStrike">
                <a:solidFill>
                  <a:srgbClr val="000000"/>
                </a:solidFill>
                <a:latin typeface="HY강B"/>
                <a:ea typeface="HY강B"/>
              </a:rPr>
              <a:t>제도개선 전선 형성의 요구 ↔ 초보적 임단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600" spc="-1" strike="noStrike">
                <a:solidFill>
                  <a:srgbClr val="000000"/>
                </a:solidFill>
                <a:latin typeface="굴림"/>
              </a:rPr>
              <a:t>⇨ </a:t>
            </a:r>
            <a:r>
              <a:rPr b="1" i="1" lang="ko-KR" sz="3600" spc="-1" strike="noStrike">
                <a:solidFill>
                  <a:srgbClr val="000000"/>
                </a:solidFill>
                <a:latin typeface="굴림"/>
              </a:rPr>
              <a:t>괴리의 극복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"</a:t>
            </a:r>
            <a:r>
              <a:rPr b="1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함께하는 투쟁</a:t>
            </a:r>
            <a:r>
              <a:rPr b="1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! </a:t>
            </a:r>
            <a:r>
              <a:rPr b="1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승리하는 민주노총</a:t>
            </a:r>
            <a:r>
              <a:rPr b="1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!”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"</a:t>
            </a:r>
            <a:r>
              <a:rPr b="1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동원에서 참여로</a:t>
            </a:r>
            <a:r>
              <a:rPr b="1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! </a:t>
            </a:r>
            <a:r>
              <a:rPr b="1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교육이 조직이고</a:t>
            </a:r>
            <a:r>
              <a:rPr b="1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선전도 투쟁이다</a:t>
            </a:r>
            <a:r>
              <a:rPr b="1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!”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1341360"/>
            <a:ext cx="9144000" cy="1079640"/>
          </a:xfrm>
          <a:prstGeom prst="rect">
            <a:avLst/>
          </a:prstGeom>
          <a:solidFill>
            <a:srgbClr val="c68d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2628720" y="1471680"/>
            <a:ext cx="3859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99"/>
                </a:solidFill>
                <a:latin typeface="HY견고딕"/>
                <a:ea typeface="HY견고딕"/>
              </a:rPr>
              <a:t>2008</a:t>
            </a:r>
            <a:r>
              <a:rPr b="0" lang="ko-KR" sz="5000" spc="-1" strike="noStrike">
                <a:solidFill>
                  <a:srgbClr val="336699"/>
                </a:solidFill>
                <a:latin typeface="HY견고딕"/>
                <a:ea typeface="HY견고딕"/>
              </a:rPr>
              <a:t>년 사업계획</a:t>
            </a:r>
            <a:endParaRPr b="1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684360" y="3286080"/>
            <a:ext cx="76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HY산B"/>
                <a:ea typeface="HY산B"/>
              </a:rPr>
              <a:t>함께하는 투쟁</a:t>
            </a:r>
            <a:r>
              <a:rPr b="1" lang="en-US" sz="3600" spc="-1" strike="noStrike">
                <a:solidFill>
                  <a:srgbClr val="000000"/>
                </a:solidFill>
                <a:latin typeface="HY산B"/>
                <a:ea typeface="HY산B"/>
              </a:rPr>
              <a:t>! </a:t>
            </a:r>
            <a:r>
              <a:rPr b="1" lang="ko-KR" sz="3600" spc="-1" strike="noStrike">
                <a:solidFill>
                  <a:srgbClr val="000000"/>
                </a:solidFill>
                <a:latin typeface="HY산B"/>
                <a:ea typeface="HY산B"/>
              </a:rPr>
              <a:t>승리하는 민주노총</a:t>
            </a:r>
            <a:r>
              <a:rPr b="1" lang="en-US" sz="3600" spc="-1" strike="noStrike">
                <a:solidFill>
                  <a:srgbClr val="000000"/>
                </a:solidFill>
                <a:latin typeface="HY산B"/>
                <a:ea typeface="HY산B"/>
              </a:rPr>
              <a:t>!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54240" y="260280"/>
            <a:ext cx="26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사업계획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94000" y="9079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대 사업 목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08000" y="1463760"/>
            <a:ext cx="3568680" cy="10764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민주노총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조직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투쟁력 강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108000" y="3154320"/>
            <a:ext cx="3568680" cy="11034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산별노조 강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비정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미조직사업 강화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대산별 건설기반 마련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108000" y="4842000"/>
            <a:ext cx="3568680" cy="11080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민주노총의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사회적 위상 제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3780000" y="1989000"/>
            <a:ext cx="609480" cy="0"/>
          </a:xfrm>
          <a:prstGeom prst="line">
            <a:avLst/>
          </a:prstGeom>
          <a:ln w="7632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Line 18"/>
          <p:cNvSpPr/>
          <p:nvPr/>
        </p:nvSpPr>
        <p:spPr>
          <a:xfrm>
            <a:off x="3780000" y="3716280"/>
            <a:ext cx="609480" cy="0"/>
          </a:xfrm>
          <a:prstGeom prst="line">
            <a:avLst/>
          </a:prstGeom>
          <a:ln w="7632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Line 19"/>
          <p:cNvSpPr/>
          <p:nvPr/>
        </p:nvSpPr>
        <p:spPr>
          <a:xfrm>
            <a:off x="3780000" y="5373720"/>
            <a:ext cx="609480" cy="0"/>
          </a:xfrm>
          <a:prstGeom prst="line">
            <a:avLst/>
          </a:prstGeom>
          <a:ln w="7632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6049080" y="-351720"/>
            <a:ext cx="1440000" cy="4680000"/>
          </a:xfrm>
          <a:prstGeom prst="cube">
            <a:avLst>
              <a:gd name="adj" fmla="val 11666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현장 조직력 강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산별공동임단투 성사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대과제 실현을 위한 민주노총 총력투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6091200" y="1384200"/>
            <a:ext cx="1461960" cy="4643280"/>
          </a:xfrm>
          <a:prstGeom prst="cube">
            <a:avLst>
              <a:gd name="adj" fmla="val 11666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산별전환 완료와 대산별 구체 전망 수립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비정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미조직 조직화의 전략적 토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산별시대에 맞는 조직혁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6101280" y="3050280"/>
            <a:ext cx="1441800" cy="4643280"/>
          </a:xfrm>
          <a:prstGeom prst="cube">
            <a:avLst>
              <a:gd name="adj" fmla="val 116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총선승리 원내교섭단체 쟁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진보진영총단결과 시민사회연대 강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54240" y="260280"/>
            <a:ext cx="26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사업계획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648360" y="765000"/>
            <a:ext cx="24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08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년 과제와 요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1462680" y="560880"/>
            <a:ext cx="817560" cy="3384720"/>
          </a:xfrm>
          <a:prstGeom prst="cube">
            <a:avLst>
              <a:gd name="adj" fmla="val 11666"/>
            </a:avLst>
          </a:prstGeom>
          <a:solidFill>
            <a:srgbClr val="ffff99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비정규직 정규직화와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일자리 확보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1438920" y="1521360"/>
            <a:ext cx="865080" cy="3384720"/>
          </a:xfrm>
          <a:prstGeom prst="cube">
            <a:avLst>
              <a:gd name="adj" fmla="val 11666"/>
            </a:avLst>
          </a:prstGeom>
          <a:solidFill>
            <a:srgbClr val="99cc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사회공공성 강화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빈부격차 해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1439640" y="2528640"/>
            <a:ext cx="863640" cy="3384720"/>
          </a:xfrm>
          <a:prstGeom prst="cube">
            <a:avLst>
              <a:gd name="adj" fmla="val 11666"/>
            </a:avLst>
          </a:prstGeom>
          <a:solidFill>
            <a:srgbClr val="a3f25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모든 노동자에게 단체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협약과 노동기본권 보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rot="5400000">
            <a:off x="1510920" y="3537000"/>
            <a:ext cx="792360" cy="3313080"/>
          </a:xfrm>
          <a:prstGeom prst="cube">
            <a:avLst>
              <a:gd name="adj" fmla="val 11666"/>
            </a:avLst>
          </a:prstGeom>
          <a:solidFill>
            <a:srgbClr val="fda4b5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신자유주의 세계화 중단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6606000" y="386280"/>
            <a:ext cx="865080" cy="3924360"/>
          </a:xfrm>
          <a:prstGeom prst="cube">
            <a:avLst>
              <a:gd name="adj" fmla="val 11666"/>
            </a:avLst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rial"/>
              </a:rPr>
              <a:t>비정규직 정규직화 등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ko-KR" sz="2200" spc="-1" strike="noStrike">
                <a:solidFill>
                  <a:srgbClr val="000000"/>
                </a:solidFill>
                <a:latin typeface="Arial"/>
              </a:rPr>
              <a:t>대 요구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708360" y="2322360"/>
            <a:ext cx="1304640" cy="3627720"/>
            <a:chOff x="3708360" y="2322360"/>
            <a:chExt cx="1304640" cy="3627720"/>
          </a:xfrm>
        </p:grpSpPr>
        <p:sp>
          <p:nvSpPr>
            <p:cNvPr id="301" name=""/>
            <p:cNvSpPr/>
            <p:nvPr/>
          </p:nvSpPr>
          <p:spPr>
            <a:xfrm>
              <a:off x="3708360" y="2322360"/>
              <a:ext cx="1281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08360" y="3229200"/>
              <a:ext cx="1281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08360" y="4136400"/>
              <a:ext cx="1281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08360" y="5043240"/>
              <a:ext cx="1281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31760" y="5950080"/>
              <a:ext cx="1281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5400000">
            <a:off x="6605640" y="1323000"/>
            <a:ext cx="865440" cy="3924360"/>
          </a:xfrm>
          <a:prstGeom prst="cube">
            <a:avLst>
              <a:gd name="adj" fmla="val 11666"/>
            </a:avLst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rial"/>
              </a:rPr>
              <a:t>공공부문 구조조정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ko-KR" sz="2200" spc="-1" strike="noStrike">
                <a:solidFill>
                  <a:srgbClr val="000000"/>
                </a:solidFill>
                <a:latin typeface="Arial"/>
              </a:rPr>
              <a:t>사유화 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rial"/>
              </a:rPr>
              <a:t>저지 등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ko-KR" sz="2200" spc="-1" strike="noStrike">
                <a:solidFill>
                  <a:srgbClr val="000000"/>
                </a:solidFill>
                <a:latin typeface="Arial"/>
              </a:rPr>
              <a:t>대 요구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6606000" y="2259360"/>
            <a:ext cx="865080" cy="3924360"/>
          </a:xfrm>
          <a:prstGeom prst="cube">
            <a:avLst>
              <a:gd name="adj" fmla="val 11666"/>
            </a:avLst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rial"/>
              </a:rPr>
              <a:t>산별교섭 제도와 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rial"/>
              </a:rPr>
              <a:t>쟁취 등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ko-KR" sz="2200" spc="-1" strike="noStrike">
                <a:solidFill>
                  <a:srgbClr val="000000"/>
                </a:solidFill>
                <a:latin typeface="Arial"/>
              </a:rPr>
              <a:t>대 요구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6605640" y="3194640"/>
            <a:ext cx="865440" cy="3924360"/>
          </a:xfrm>
          <a:prstGeom prst="cube">
            <a:avLst>
              <a:gd name="adj" fmla="val 11666"/>
            </a:avLst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rial"/>
              </a:rPr>
              <a:t>한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TA</a:t>
            </a:r>
            <a:r>
              <a:rPr b="1" lang="ko-KR" sz="2200" spc="-1" strike="noStrike">
                <a:solidFill>
                  <a:srgbClr val="000000"/>
                </a:solidFill>
                <a:latin typeface="Arial"/>
              </a:rPr>
              <a:t>의 비준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rial"/>
              </a:rPr>
              <a:t>저지 등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ko-KR" sz="2200" spc="-1" strike="noStrike">
                <a:solidFill>
                  <a:srgbClr val="000000"/>
                </a:solidFill>
                <a:latin typeface="Arial"/>
              </a:rPr>
              <a:t>대 요구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510920" y="4400640"/>
            <a:ext cx="792360" cy="3313080"/>
          </a:xfrm>
          <a:prstGeom prst="cube">
            <a:avLst>
              <a:gd name="adj" fmla="val 11666"/>
            </a:avLst>
          </a:prstGeom>
          <a:solidFill>
            <a:srgbClr val="cccc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한반도 평화실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606000" y="4129920"/>
            <a:ext cx="865080" cy="3924360"/>
          </a:xfrm>
          <a:prstGeom prst="cube">
            <a:avLst>
              <a:gd name="adj" fmla="val 11666"/>
            </a:avLst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rial"/>
              </a:rPr>
              <a:t>한반도 평화협정 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rial"/>
              </a:rPr>
              <a:t>체결 등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ko-KR" sz="2200" spc="-1" strike="noStrike">
                <a:solidFill>
                  <a:srgbClr val="000000"/>
                </a:solidFill>
                <a:latin typeface="Arial"/>
              </a:rPr>
              <a:t>대 요구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2987640" y="1268280"/>
            <a:ext cx="3673440" cy="35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100000">
                <a:srgbClr val="5571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5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대 과제와 </a:t>
            </a: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16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대 요구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1341360"/>
            <a:ext cx="9144000" cy="1079640"/>
          </a:xfrm>
          <a:prstGeom prst="rect">
            <a:avLst/>
          </a:prstGeom>
          <a:solidFill>
            <a:srgbClr val="c68d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54240" y="260280"/>
            <a:ext cx="26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사업계획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584080" y="1471680"/>
            <a:ext cx="3859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99"/>
                </a:solidFill>
                <a:latin typeface="HY견고딕"/>
                <a:ea typeface="HY견고딕"/>
              </a:rPr>
              <a:t>2008</a:t>
            </a:r>
            <a:r>
              <a:rPr b="0" lang="ko-KR" sz="5000" spc="-1" strike="noStrike">
                <a:solidFill>
                  <a:srgbClr val="336699"/>
                </a:solidFill>
                <a:latin typeface="HY견고딕"/>
                <a:ea typeface="HY견고딕"/>
              </a:rPr>
              <a:t>년 핵심요구</a:t>
            </a:r>
            <a:endParaRPr b="1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03280" y="4076640"/>
            <a:ext cx="8532720" cy="1008000"/>
          </a:xfrm>
          <a:prstGeom prst="rect">
            <a:avLst/>
          </a:prstGeom>
          <a:gradFill rotWithShape="0">
            <a:gsLst>
              <a:gs pos="0">
                <a:srgbClr val="767676">
                  <a:alpha val="30196"/>
                </a:srgbClr>
              </a:gs>
              <a:gs pos="100000">
                <a:srgbClr val="ffffff">
                  <a:alpha val="30196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179280" y="2709720"/>
            <a:ext cx="8821800" cy="1160640"/>
          </a:xfrm>
          <a:prstGeom prst="rect">
            <a:avLst/>
          </a:prstGeom>
          <a:gradFill rotWithShape="0">
            <a:gsLst>
              <a:gs pos="0">
                <a:srgbClr val="767676">
                  <a:alpha val="30196"/>
                </a:srgbClr>
              </a:gs>
              <a:gs pos="100000">
                <a:srgbClr val="ffffff">
                  <a:alpha val="30196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262080" y="2784600"/>
            <a:ext cx="564840" cy="12301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Rectangle 11"/>
          <p:cNvSpPr/>
          <p:nvPr/>
        </p:nvSpPr>
        <p:spPr>
          <a:xfrm>
            <a:off x="260280" y="4149720"/>
            <a:ext cx="566640" cy="10717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971640" y="2789280"/>
            <a:ext cx="5715000" cy="92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16</a:t>
            </a:r>
            <a:r>
              <a:rPr b="1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대 요구와 각 연맹과 산별노조에서 제출한 요구 중에서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2008</a:t>
            </a:r>
            <a:r>
              <a:rPr b="1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년 핵심요구를 확정하고 전 조직적 투쟁으로 전개함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971640" y="4005360"/>
            <a:ext cx="5715000" cy="10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008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년 핵심요구는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개 이하로 확정함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Rectangle 16"/>
          <p:cNvSpPr/>
          <p:nvPr/>
        </p:nvSpPr>
        <p:spPr>
          <a:xfrm>
            <a:off x="468360" y="5302080"/>
            <a:ext cx="8532720" cy="935280"/>
          </a:xfrm>
          <a:prstGeom prst="rect">
            <a:avLst/>
          </a:prstGeom>
          <a:gradFill rotWithShape="0">
            <a:gsLst>
              <a:gs pos="0">
                <a:srgbClr val="767676">
                  <a:alpha val="30196"/>
                </a:srgbClr>
              </a:gs>
              <a:gs pos="100000">
                <a:srgbClr val="ffffff">
                  <a:alpha val="30196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Rectangle 17"/>
          <p:cNvSpPr/>
          <p:nvPr/>
        </p:nvSpPr>
        <p:spPr>
          <a:xfrm>
            <a:off x="260280" y="5373720"/>
            <a:ext cx="566640" cy="1008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Rectangle 19"/>
          <p:cNvSpPr/>
          <p:nvPr/>
        </p:nvSpPr>
        <p:spPr>
          <a:xfrm>
            <a:off x="971640" y="5302080"/>
            <a:ext cx="5715000" cy="101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대 핵심요구 확정은 </a:t>
            </a:r>
            <a:r>
              <a:rPr b="1" lang="ko-KR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008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년 민주노총 투쟁본부</a:t>
            </a:r>
            <a:r>
              <a:rPr b="1" lang="ko-KR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위임함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1341360"/>
            <a:ext cx="9144000" cy="1079640"/>
          </a:xfrm>
          <a:prstGeom prst="rect">
            <a:avLst/>
          </a:prstGeom>
          <a:solidFill>
            <a:srgbClr val="c68d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Line 4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3169800" y="1471680"/>
            <a:ext cx="2631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336699"/>
                </a:solidFill>
                <a:latin typeface="HY견고딕"/>
                <a:ea typeface="HY견고딕"/>
              </a:rPr>
              <a:t>주요 사업기조</a:t>
            </a:r>
            <a:endParaRPr b="1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1928880" y="364320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73260"/>
              </a:buClr>
              <a:buFont typeface="산돌독수리B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73260"/>
                </a:solidFill>
                <a:latin typeface="산돌독수리B"/>
                <a:ea typeface="산돌독수리B"/>
              </a:rPr>
              <a:t>투쟁사업 기조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373260"/>
              </a:buClr>
              <a:buFont typeface="산돌독수리B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73260"/>
                </a:solidFill>
                <a:latin typeface="산돌독수리B"/>
                <a:ea typeface="산돌독수리B"/>
              </a:rPr>
              <a:t>조직사업 기조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373260"/>
              </a:buClr>
              <a:buFont typeface="산돌독수리B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73260"/>
                </a:solidFill>
                <a:latin typeface="산돌독수리B"/>
                <a:ea typeface="산돌독수리B"/>
              </a:rPr>
              <a:t>정책</a:t>
            </a:r>
            <a:r>
              <a:rPr b="0" lang="en-US" sz="3200" spc="-1" strike="noStrike">
                <a:solidFill>
                  <a:srgbClr val="373260"/>
                </a:solidFill>
                <a:latin typeface="산돌독수리B"/>
                <a:ea typeface="산돌독수리B"/>
              </a:rPr>
              <a:t>.</a:t>
            </a:r>
            <a:r>
              <a:rPr b="0" lang="ko-KR" sz="3200" spc="-1" strike="noStrike">
                <a:solidFill>
                  <a:srgbClr val="373260"/>
                </a:solidFill>
                <a:latin typeface="산돌독수리B"/>
                <a:ea typeface="산돌독수리B"/>
              </a:rPr>
              <a:t>교육선전사업 기조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373260"/>
              </a:buClr>
              <a:buFont typeface="산돌독수리B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73260"/>
                </a:solidFill>
                <a:latin typeface="산돌독수리B"/>
                <a:ea typeface="산돌독수리B"/>
              </a:rPr>
              <a:t>정치</a:t>
            </a:r>
            <a:r>
              <a:rPr b="0" lang="en-US" sz="3200" spc="-1" strike="noStrike">
                <a:solidFill>
                  <a:srgbClr val="373260"/>
                </a:solidFill>
                <a:latin typeface="산돌독수리B"/>
                <a:ea typeface="산돌독수리B"/>
              </a:rPr>
              <a:t>.</a:t>
            </a:r>
            <a:r>
              <a:rPr b="0" lang="ko-KR" sz="3200" spc="-1" strike="noStrike">
                <a:solidFill>
                  <a:srgbClr val="373260"/>
                </a:solidFill>
                <a:latin typeface="산돌독수리B"/>
                <a:ea typeface="산돌독수리B"/>
              </a:rPr>
              <a:t>연대사업 기조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643040" y="2428920"/>
            <a:ext cx="5214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HY산B"/>
                <a:ea typeface="HY산B"/>
              </a:rPr>
              <a:t>동원에서 참여로</a:t>
            </a:r>
            <a:r>
              <a:rPr b="1" lang="en-US" sz="2800" spc="-1" strike="noStrike">
                <a:solidFill>
                  <a:srgbClr val="000000"/>
                </a:solidFill>
                <a:latin typeface="HY산B"/>
                <a:ea typeface="HY산B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산B"/>
                <a:ea typeface="HY산B"/>
              </a:rPr>
              <a:t>교육이 조직이고 </a:t>
            </a:r>
            <a:r>
              <a:rPr b="1" lang="en-US" sz="2000" spc="-1" strike="noStrike">
                <a:solidFill>
                  <a:srgbClr val="000000"/>
                </a:solidFill>
                <a:latin typeface="HY산B"/>
                <a:ea typeface="HY산B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HY산B"/>
                <a:ea typeface="HY산B"/>
              </a:rPr>
              <a:t>선전도 투쟁이다</a:t>
            </a:r>
            <a:r>
              <a:rPr b="1" lang="en-US" sz="2000" spc="-1" strike="noStrike">
                <a:solidFill>
                  <a:srgbClr val="000000"/>
                </a:solidFill>
                <a:latin typeface="HY산B"/>
                <a:ea typeface="HY산B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AutoShape 31"/>
          <p:cNvSpPr/>
          <p:nvPr/>
        </p:nvSpPr>
        <p:spPr>
          <a:xfrm>
            <a:off x="250920" y="2349360"/>
            <a:ext cx="915840" cy="1862280"/>
          </a:xfrm>
          <a:prstGeom prst="downArrow">
            <a:avLst>
              <a:gd name="adj1" fmla="val 50000"/>
              <a:gd name="adj2" fmla="val 101680"/>
            </a:avLst>
          </a:pr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5080" y="907920"/>
            <a:ext cx="16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총 투쟁기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AutoShape 27"/>
          <p:cNvSpPr/>
          <p:nvPr/>
        </p:nvSpPr>
        <p:spPr>
          <a:xfrm>
            <a:off x="1319040" y="2811600"/>
            <a:ext cx="7716960" cy="1122120"/>
          </a:xfrm>
          <a:prstGeom prst="cube">
            <a:avLst>
              <a:gd name="adj" fmla="val 3578"/>
            </a:avLst>
          </a:prstGeom>
          <a:solidFill>
            <a:srgbClr val="7067a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선거투쟁과 대중투쟁의 적극적 결합으로 총선투쟁승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노동의제의 사회의제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179280" y="1557360"/>
            <a:ext cx="8766360" cy="614520"/>
          </a:xfrm>
          <a:prstGeom prst="cube">
            <a:avLst>
              <a:gd name="adj" fmla="val 14060"/>
            </a:avLst>
          </a:prstGeom>
          <a:solidFill>
            <a:srgbClr val="ccccff"/>
          </a:solidFill>
          <a:ln w="12600">
            <a:solidFill>
              <a:srgbClr val="4d4d4d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rial"/>
              </a:rPr>
              <a:t>공공부문 공동투쟁으로 이명박 정권과의 강력한 투쟁전선 형성</a:t>
            </a:r>
            <a:endParaRPr b="1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AutoShape 29"/>
          <p:cNvSpPr/>
          <p:nvPr/>
        </p:nvSpPr>
        <p:spPr>
          <a:xfrm>
            <a:off x="7667640" y="2349360"/>
            <a:ext cx="966600" cy="36684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9280" y="4294080"/>
            <a:ext cx="7921800" cy="1079640"/>
          </a:xfrm>
          <a:prstGeom prst="cube">
            <a:avLst>
              <a:gd name="adj" fmla="val 3018"/>
            </a:avLst>
          </a:prstGeom>
          <a:solidFill>
            <a:srgbClr val="cccc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산별 공동임단투에 기반한 민주노총 총력투쟁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2008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년 요구쟁취 민주노총 총력투쟁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595080" y="907920"/>
            <a:ext cx="16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총 투쟁기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468360" y="3357720"/>
            <a:ext cx="8280360" cy="1122120"/>
          </a:xfrm>
          <a:prstGeom prst="cube">
            <a:avLst>
              <a:gd name="adj" fmla="val 3578"/>
            </a:avLst>
          </a:prstGeom>
          <a:solidFill>
            <a:srgbClr val="fff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산돌돌 M"/>
                <a:ea typeface="산돌돌 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산돌돌 M"/>
                <a:ea typeface="산돌돌 M"/>
              </a:rPr>
              <a:t>80</a:t>
            </a:r>
            <a:r>
              <a:rPr b="1" lang="ko-KR" sz="3200" spc="-1" strike="noStrike">
                <a:solidFill>
                  <a:srgbClr val="000000"/>
                </a:solidFill>
                <a:latin typeface="산돌돌 M"/>
                <a:ea typeface="산돌돌 M"/>
              </a:rPr>
              <a:t>만 조합원에 대한 대대적인 교육선전 전개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AutoShape 6"/>
          <p:cNvSpPr/>
          <p:nvPr/>
        </p:nvSpPr>
        <p:spPr>
          <a:xfrm>
            <a:off x="395280" y="1479600"/>
            <a:ext cx="8424720" cy="797040"/>
          </a:xfrm>
          <a:prstGeom prst="cube">
            <a:avLst>
              <a:gd name="adj" fmla="val 14060"/>
            </a:avLst>
          </a:prstGeom>
          <a:solidFill>
            <a:srgbClr val="000080"/>
          </a:solidFill>
          <a:ln w="12600">
            <a:solidFill>
              <a:srgbClr val="4d4d4d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99"/>
                </a:solidFill>
                <a:latin typeface="Arial"/>
              </a:rPr>
              <a:t>동원에서 참여로</a:t>
            </a:r>
            <a:r>
              <a:rPr b="1" lang="en-US" sz="2500" spc="-1" strike="noStrike">
                <a:solidFill>
                  <a:srgbClr val="ffff99"/>
                </a:solidFill>
                <a:latin typeface="Arial"/>
              </a:rPr>
              <a:t>! </a:t>
            </a:r>
            <a:r>
              <a:rPr b="1" lang="ko-KR" sz="2500" spc="-1" strike="noStrike">
                <a:solidFill>
                  <a:srgbClr val="ffff99"/>
                </a:solidFill>
                <a:latin typeface="Arial"/>
              </a:rPr>
              <a:t>교육이 조직이고 선전이 투쟁</a:t>
            </a:r>
            <a:r>
              <a:rPr b="1" lang="en-US" sz="2500" spc="-1" strike="noStrike">
                <a:solidFill>
                  <a:srgbClr val="ffff99"/>
                </a:solidFill>
                <a:latin typeface="Arial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AutoShape 7"/>
          <p:cNvSpPr/>
          <p:nvPr/>
        </p:nvSpPr>
        <p:spPr>
          <a:xfrm>
            <a:off x="4043520" y="2492280"/>
            <a:ext cx="1104840" cy="64944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95080" y="907920"/>
            <a:ext cx="16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총 투쟁기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468360" y="3386160"/>
            <a:ext cx="8280360" cy="1122480"/>
          </a:xfrm>
          <a:prstGeom prst="cube">
            <a:avLst>
              <a:gd name="adj" fmla="val 3578"/>
            </a:avLst>
          </a:prstGeom>
          <a:solidFill>
            <a:srgbClr val="fff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산돌돌 M"/>
                <a:ea typeface="산돌돌 M"/>
              </a:rPr>
              <a:t>광고 등 매체의 적극적 활용으로 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산돌돌 M"/>
                <a:ea typeface="산돌돌 M"/>
              </a:rPr>
              <a:t>                                </a:t>
            </a:r>
            <a:r>
              <a:rPr b="1" lang="ko-KR" sz="3200" spc="-1" strike="noStrike">
                <a:solidFill>
                  <a:srgbClr val="000000"/>
                </a:solidFill>
                <a:latin typeface="산돌돌 M"/>
                <a:ea typeface="산돌돌 M"/>
              </a:rPr>
              <a:t>국민적 지지 확대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AutoShape 6"/>
          <p:cNvSpPr/>
          <p:nvPr/>
        </p:nvSpPr>
        <p:spPr>
          <a:xfrm>
            <a:off x="395280" y="1479600"/>
            <a:ext cx="8424720" cy="797040"/>
          </a:xfrm>
          <a:prstGeom prst="cube">
            <a:avLst>
              <a:gd name="adj" fmla="val 14060"/>
            </a:avLst>
          </a:prstGeom>
          <a:solidFill>
            <a:srgbClr val="003399"/>
          </a:solidFill>
          <a:ln w="12600">
            <a:solidFill>
              <a:srgbClr val="4d4d4d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99"/>
                </a:solidFill>
                <a:latin typeface="굴림"/>
              </a:rPr>
              <a:t>대국민 선전사업의 전략적 배치로 대여론전에서 승리</a:t>
            </a:r>
            <a:r>
              <a:rPr b="1" lang="en-US" sz="2500" spc="-1" strike="noStrike">
                <a:solidFill>
                  <a:srgbClr val="ffff99"/>
                </a:solidFill>
                <a:latin typeface="굴림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4043520" y="2492280"/>
            <a:ext cx="1104840" cy="65556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595080" y="907920"/>
            <a:ext cx="16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총 투쟁기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95280" y="3355920"/>
            <a:ext cx="8459640" cy="1081080"/>
          </a:xfrm>
          <a:prstGeom prst="cube">
            <a:avLst>
              <a:gd name="adj" fmla="val 3578"/>
            </a:avLst>
          </a:prstGeom>
          <a:solidFill>
            <a:srgbClr val="fff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산돌돌 M"/>
              </a:rPr>
              <a:t>‘</a:t>
            </a:r>
            <a:r>
              <a:rPr b="1" lang="ko-KR" sz="2800" spc="-1" strike="noStrike">
                <a:solidFill>
                  <a:srgbClr val="000000"/>
                </a:solidFill>
                <a:latin typeface="산돌돌 M"/>
                <a:ea typeface="산돌돌 M"/>
              </a:rPr>
              <a:t>민주노총 투쟁본부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  <a:ea typeface="산돌돌 M"/>
              </a:rPr>
              <a:t>’</a:t>
            </a:r>
            <a:r>
              <a:rPr b="1" lang="ko-KR" sz="2800" spc="-1" strike="noStrike">
                <a:solidFill>
                  <a:srgbClr val="000000"/>
                </a:solidFill>
                <a:latin typeface="산돌돌 M"/>
                <a:ea typeface="산돌돌 M"/>
              </a:rPr>
              <a:t>건설로 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산돌돌 M"/>
                <a:ea typeface="산돌돌 M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산돌돌 M"/>
                <a:ea typeface="산돌돌 M"/>
              </a:rPr>
              <a:t>80</a:t>
            </a:r>
            <a:r>
              <a:rPr b="1" lang="ko-KR" sz="2800" spc="-1" strike="noStrike">
                <a:solidFill>
                  <a:srgbClr val="000000"/>
                </a:solidFill>
                <a:latin typeface="산돌돌 M"/>
                <a:ea typeface="산돌돌 M"/>
              </a:rPr>
              <a:t>만 조합원의 총단결투쟁 실현</a:t>
            </a:r>
            <a:r>
              <a:rPr b="1" lang="en-US" sz="2800" spc="-1" strike="noStrike">
                <a:solidFill>
                  <a:srgbClr val="000000"/>
                </a:solidFill>
                <a:latin typeface="산돌돌 M"/>
                <a:ea typeface="산돌돌 M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AutoShape 6"/>
          <p:cNvSpPr/>
          <p:nvPr/>
        </p:nvSpPr>
        <p:spPr>
          <a:xfrm>
            <a:off x="415800" y="1479600"/>
            <a:ext cx="8404200" cy="797040"/>
          </a:xfrm>
          <a:prstGeom prst="cube">
            <a:avLst>
              <a:gd name="adj" fmla="val 14060"/>
            </a:avLst>
          </a:prstGeom>
          <a:solidFill>
            <a:srgbClr val="003399"/>
          </a:solidFill>
          <a:ln w="12600">
            <a:solidFill>
              <a:srgbClr val="4d4d4d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99"/>
                </a:solidFill>
                <a:latin typeface="Arial"/>
              </a:rPr>
              <a:t>모든 조직 요구의 결집</a:t>
            </a:r>
            <a:r>
              <a:rPr b="1" lang="en-US" sz="2500" spc="-1" strike="noStrike">
                <a:solidFill>
                  <a:srgbClr val="ffff99"/>
                </a:solidFill>
                <a:latin typeface="Arial"/>
              </a:rPr>
              <a:t>! </a:t>
            </a:r>
            <a:r>
              <a:rPr b="1" lang="ko-KR" sz="2500" spc="-1" strike="noStrike">
                <a:solidFill>
                  <a:srgbClr val="ffff99"/>
                </a:solidFill>
                <a:latin typeface="Arial"/>
              </a:rPr>
              <a:t>강력한 투쟁지휘력 구축</a:t>
            </a:r>
            <a:r>
              <a:rPr b="1" lang="en-US" sz="2500" spc="-1" strike="noStrike">
                <a:solidFill>
                  <a:srgbClr val="ffff99"/>
                </a:solidFill>
                <a:latin typeface="Arial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AutoShape 9"/>
          <p:cNvSpPr/>
          <p:nvPr/>
        </p:nvSpPr>
        <p:spPr>
          <a:xfrm>
            <a:off x="4043520" y="2492280"/>
            <a:ext cx="1104840" cy="65556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674640" y="907920"/>
            <a:ext cx="22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노골적 신자유주의 정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_x97204920" descr="EMB0000091c573e"/>
          <p:cNvPicPr/>
          <p:nvPr/>
        </p:nvPicPr>
        <p:blipFill>
          <a:blip r:embed="rId1"/>
          <a:stretch/>
        </p:blipFill>
        <p:spPr>
          <a:xfrm>
            <a:off x="0" y="1500120"/>
            <a:ext cx="4929120" cy="50720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2"/>
          <p:cNvSpPr/>
          <p:nvPr/>
        </p:nvSpPr>
        <p:spPr>
          <a:xfrm>
            <a:off x="6000840" y="1785960"/>
            <a:ext cx="257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즈니스 프랜드리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Business Friendly)"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3" descr="E:\2008정세\img_42_984_25.jpg"/>
          <p:cNvPicPr/>
          <p:nvPr/>
        </p:nvPicPr>
        <p:blipFill>
          <a:blip r:embed="rId2"/>
          <a:stretch/>
        </p:blipFill>
        <p:spPr>
          <a:xfrm>
            <a:off x="4923000" y="3000240"/>
            <a:ext cx="4221000" cy="352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50976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652680" y="907920"/>
            <a:ext cx="17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요 투쟁계획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AutoShape 48"/>
          <p:cNvSpPr/>
          <p:nvPr/>
        </p:nvSpPr>
        <p:spPr>
          <a:xfrm>
            <a:off x="1214280" y="1785960"/>
            <a:ext cx="6929640" cy="569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100000">
                <a:srgbClr val="5672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견고딕"/>
                <a:ea typeface="HY견고딕"/>
              </a:rPr>
              <a:t>신정권 출범대응 및 공공부문 공동투쟁</a:t>
            </a:r>
            <a:endParaRPr b="1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AutoShape 13"/>
          <p:cNvSpPr/>
          <p:nvPr/>
        </p:nvSpPr>
        <p:spPr>
          <a:xfrm>
            <a:off x="1214280" y="2928960"/>
            <a:ext cx="6910560" cy="569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100000">
                <a:srgbClr val="5672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견고딕"/>
                <a:ea typeface="HY견고딕"/>
              </a:rPr>
              <a:t>산별 공동임단투에 기반한 민주노총 총력투쟁</a:t>
            </a:r>
            <a:endParaRPr b="1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AutoShape 13"/>
          <p:cNvSpPr/>
          <p:nvPr/>
        </p:nvSpPr>
        <p:spPr>
          <a:xfrm>
            <a:off x="1214280" y="4000680"/>
            <a:ext cx="6910560" cy="569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100000">
                <a:srgbClr val="5672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견고딕"/>
                <a:ea typeface="HY견고딕"/>
              </a:rPr>
              <a:t>하반기 총력투쟁</a:t>
            </a:r>
            <a:endParaRPr b="1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652680" y="907920"/>
            <a:ext cx="17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요 투쟁계획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AutoShape 9"/>
          <p:cNvSpPr/>
          <p:nvPr/>
        </p:nvSpPr>
        <p:spPr>
          <a:xfrm>
            <a:off x="2122560" y="1413000"/>
            <a:ext cx="5329080" cy="569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100000">
                <a:srgbClr val="5672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8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년 민주노총 투쟁본부 체계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3708360" y="2303640"/>
            <a:ext cx="2158920" cy="429120"/>
          </a:xfrm>
          <a:prstGeom prst="rect">
            <a:avLst/>
          </a:prstGeom>
          <a:solidFill>
            <a:srgbClr val="7067a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투쟁본부 회의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4219200" y="3068640"/>
            <a:ext cx="1122480" cy="429120"/>
          </a:xfrm>
          <a:prstGeom prst="rect">
            <a:avLst/>
          </a:prstGeom>
          <a:solidFill>
            <a:srgbClr val="7067a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본   부   장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684360" y="5726160"/>
            <a:ext cx="8208720" cy="429120"/>
          </a:xfrm>
          <a:prstGeom prst="rect">
            <a:avLst/>
          </a:prstGeom>
          <a:solidFill>
            <a:srgbClr val="7067a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각 조 직 집 행 책 임 자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Text Box 14"/>
          <p:cNvSpPr/>
          <p:nvPr/>
        </p:nvSpPr>
        <p:spPr>
          <a:xfrm>
            <a:off x="6156360" y="5153040"/>
            <a:ext cx="2663640" cy="429120"/>
          </a:xfrm>
          <a:prstGeom prst="rect">
            <a:avLst/>
          </a:prstGeom>
          <a:solidFill>
            <a:srgbClr val="7067a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집 행 부 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Text Box 16"/>
          <p:cNvSpPr/>
          <p:nvPr/>
        </p:nvSpPr>
        <p:spPr>
          <a:xfrm>
            <a:off x="1041480" y="3573360"/>
            <a:ext cx="1937880" cy="915840"/>
          </a:xfrm>
          <a:prstGeom prst="rect">
            <a:avLst/>
          </a:prstGeom>
          <a:solidFill>
            <a:srgbClr val="7067a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대산별 공동투쟁본부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공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교육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조 등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공투본 내에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의제별 대책팀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6143760" y="3684600"/>
            <a:ext cx="2676240" cy="672480"/>
          </a:xfrm>
          <a:prstGeom prst="rect">
            <a:avLst/>
          </a:prstGeom>
          <a:solidFill>
            <a:srgbClr val="7067a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전략기획회의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연맹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산별노조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략사업장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73" name="AutoShape 18"/>
          <p:cNvCxnSpPr>
            <a:stCxn id="367" idx="2"/>
            <a:endCxn id="368" idx="0"/>
          </p:cNvCxnSpPr>
          <p:nvPr/>
        </p:nvCxnSpPr>
        <p:spPr>
          <a:xfrm flipH="1">
            <a:off x="4781160" y="2739600"/>
            <a:ext cx="720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4" name="Text Box 12"/>
          <p:cNvSpPr/>
          <p:nvPr/>
        </p:nvSpPr>
        <p:spPr>
          <a:xfrm>
            <a:off x="4287240" y="4581360"/>
            <a:ext cx="1018800" cy="429120"/>
          </a:xfrm>
          <a:prstGeom prst="rect">
            <a:avLst/>
          </a:prstGeom>
          <a:solidFill>
            <a:srgbClr val="7067a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집행위원장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75" name="AutoShape 20"/>
          <p:cNvCxnSpPr>
            <a:endCxn id="374" idx="0"/>
          </p:cNvCxnSpPr>
          <p:nvPr/>
        </p:nvCxnSpPr>
        <p:spPr>
          <a:xfrm>
            <a:off x="4788000" y="3499920"/>
            <a:ext cx="1008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AutoShape 21"/>
          <p:cNvCxnSpPr>
            <a:endCxn id="369" idx="0"/>
          </p:cNvCxnSpPr>
          <p:nvPr/>
        </p:nvCxnSpPr>
        <p:spPr>
          <a:xfrm flipH="1">
            <a:off x="4788720" y="5013360"/>
            <a:ext cx="540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AutoShape 23"/>
          <p:cNvCxnSpPr>
            <a:stCxn id="371" idx="3"/>
            <a:endCxn id="372" idx="1"/>
          </p:cNvCxnSpPr>
          <p:nvPr/>
        </p:nvCxnSpPr>
        <p:spPr>
          <a:xfrm flipV="1">
            <a:off x="3419280" y="4025160"/>
            <a:ext cx="272484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AutoShape 24"/>
          <p:cNvCxnSpPr>
            <a:endCxn id="370" idx="1"/>
          </p:cNvCxnSpPr>
          <p:nvPr/>
        </p:nvCxnSpPr>
        <p:spPr>
          <a:xfrm flipV="1">
            <a:off x="4787640" y="5371920"/>
            <a:ext cx="1369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354240" y="260280"/>
            <a:ext cx="26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사업계획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52680" y="907920"/>
            <a:ext cx="17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요 투쟁계획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AutoShape 9"/>
          <p:cNvSpPr/>
          <p:nvPr/>
        </p:nvSpPr>
        <p:spPr>
          <a:xfrm>
            <a:off x="2124000" y="1341360"/>
            <a:ext cx="4753080" cy="426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100000">
                <a:srgbClr val="5672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2008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년 주요 투쟁 진행 흐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Rectangle 101"/>
          <p:cNvSpPr/>
          <p:nvPr/>
        </p:nvSpPr>
        <p:spPr>
          <a:xfrm>
            <a:off x="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79280" y="1916280"/>
          <a:ext cx="8893440" cy="4613040"/>
        </p:xfrm>
        <a:graphic>
          <a:graphicData uri="http://schemas.openxmlformats.org/drawingml/2006/table">
            <a:tbl>
              <a:tblPr/>
              <a:tblGrid>
                <a:gridCol w="854280"/>
                <a:gridCol w="3835440"/>
                <a:gridCol w="420372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7067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민주노총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067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연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산별노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7067af">
                        <a:alpha val="50000"/>
                      </a:srgbClr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7067a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투쟁계획 및 투쟁본부 구성 확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대정부 대자본 교섭 요구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조직 순회간담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세부 투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계획 확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공부문 공동투쟁본부 구성 및 투쟁 돌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범국본과 연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한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FTA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비준저지투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사회공공성강화를 위한 민중시민사회연대 실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각 조직별 투쟁계획 확정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민주노총 투쟁본부 지침에 따른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008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년 총력투쟁 전개 결의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공부문 공동투쟁 돌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대산업별 공동투쟁 태세 구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12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7067a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 ~ 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7067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4.9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국회의원 총선 투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산별노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미전환 기업별노조 임단투 돌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산별교섭 요구 투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7067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민주노총 투쟁승리 결의대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각 의제별 대중투쟁 본격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집중 산별교섭 투쟁 전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대산업별 공동투쟁 전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조직별 공동임단투승리 결의대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7067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원국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 2008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년 핵심요구 쟁취 대중투쟁 및 대국회 입법안 제출과 입법활동 본격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범국본을 중심으로 한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FTA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비준저지 투쟁 전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동쟁의발생 결의 및 쟁의행위 찬반투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연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산별 요구를 중심으로 개원국회 대응 투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6~ 7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초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산별공동임단투에 기반한 민주노총 총력투쟁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354240" y="260280"/>
            <a:ext cx="26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사업계획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652680" y="907920"/>
            <a:ext cx="17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요 투쟁계획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2124000" y="1341360"/>
            <a:ext cx="475308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100000">
                <a:srgbClr val="5672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2008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년 주요 투쟁 진행 흐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Rectangle 61"/>
          <p:cNvSpPr/>
          <p:nvPr/>
        </p:nvSpPr>
        <p:spPr>
          <a:xfrm>
            <a:off x="0" y="25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42920" y="2060640"/>
          <a:ext cx="8893080" cy="4105080"/>
        </p:xfrm>
        <a:graphic>
          <a:graphicData uri="http://schemas.openxmlformats.org/drawingml/2006/table">
            <a:tbl>
              <a:tblPr/>
              <a:tblGrid>
                <a:gridCol w="509400"/>
                <a:gridCol w="8383680"/>
              </a:tblGrid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임시대의원대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또는 단위사업장대표자 수련대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하반기 민주노총 총력투쟁 승리를 위한 ‘단위사업장 총회투쟁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 ‘16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 지역 민주노총 요구쟁취 결의대회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조합원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5%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참가 목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1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•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하반기 민주노총 총력투쟁 주간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/ 2008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년 전국노동자대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•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민중대회 등 진보민중시민진영과의 공동투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5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대요구 쟁취 임시국회 대응투쟁 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009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년 투쟁태세 구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54240" y="260280"/>
            <a:ext cx="26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사업계획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rot="5400000">
            <a:off x="4970880" y="-224640"/>
            <a:ext cx="576360" cy="5334120"/>
          </a:xfrm>
          <a:prstGeom prst="cube">
            <a:avLst>
              <a:gd name="adj" fmla="val 11666"/>
            </a:avLst>
          </a:prstGeom>
          <a:solidFill>
            <a:srgbClr val="7067a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②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사회공공성 영역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rot="5400000">
            <a:off x="4965120" y="688680"/>
            <a:ext cx="587520" cy="5334120"/>
          </a:xfrm>
          <a:prstGeom prst="cube">
            <a:avLst>
              <a:gd name="adj" fmla="val 11666"/>
            </a:avLst>
          </a:prstGeom>
          <a:solidFill>
            <a:srgbClr val="fff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③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노동기본권 영역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rot="5400000">
            <a:off x="4962960" y="1594080"/>
            <a:ext cx="592200" cy="5334120"/>
          </a:xfrm>
          <a:prstGeom prst="cube">
            <a:avLst>
              <a:gd name="adj" fmla="val 11666"/>
            </a:avLst>
          </a:prstGeom>
          <a:solidFill>
            <a:srgbClr val="fda4b5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④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한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A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영역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rot="5400000">
            <a:off x="4970880" y="2495880"/>
            <a:ext cx="576360" cy="5334120"/>
          </a:xfrm>
          <a:prstGeom prst="cube">
            <a:avLst>
              <a:gd name="adj" fmla="val 11666"/>
            </a:avLst>
          </a:prstGeom>
          <a:solidFill>
            <a:srgbClr val="cccc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⑤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한반도 평화실현 영역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 rot="5400000">
            <a:off x="5001120" y="3405600"/>
            <a:ext cx="576360" cy="5334120"/>
          </a:xfrm>
          <a:prstGeom prst="cube">
            <a:avLst>
              <a:gd name="adj" fmla="val 11666"/>
            </a:avLst>
          </a:prstGeom>
          <a:solidFill>
            <a:srgbClr val="a3f25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※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최저임금 쟁취투쟁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4970880" y="-1110600"/>
            <a:ext cx="576360" cy="5334120"/>
          </a:xfrm>
          <a:prstGeom prst="cube">
            <a:avLst>
              <a:gd name="adj" fmla="val 11666"/>
            </a:avLst>
          </a:prstGeom>
          <a:solidFill>
            <a:srgbClr val="99cc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①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비정규 영역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684360" y="2060640"/>
            <a:ext cx="812520" cy="3828600"/>
          </a:xfrm>
          <a:prstGeom prst="rect">
            <a:avLst/>
          </a:prstGeom>
          <a:solidFill>
            <a:srgbClr val="7067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굴림"/>
              </a:rPr>
              <a:t>영</a:t>
            </a:r>
            <a:endParaRPr b="1" lang="en-US" sz="3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굴림"/>
              </a:rPr>
              <a:t>역</a:t>
            </a:r>
            <a:endParaRPr b="1" lang="en-US" sz="3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굴림"/>
              </a:rPr>
              <a:t>별</a:t>
            </a:r>
            <a:endParaRPr b="1" lang="en-US" sz="3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굴림"/>
              </a:rPr>
              <a:t>투</a:t>
            </a:r>
            <a:endParaRPr b="1" lang="en-US" sz="3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굴림"/>
              </a:rPr>
              <a:t>쟁</a:t>
            </a:r>
            <a:endParaRPr b="1" lang="en-US" sz="3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굴림"/>
              </a:rPr>
              <a:t>계</a:t>
            </a:r>
            <a:endParaRPr b="1" lang="en-US" sz="3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굴림"/>
              </a:rPr>
              <a:t>획</a:t>
            </a:r>
            <a:endParaRPr b="1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097000" y="1260360"/>
            <a:ext cx="387360" cy="6350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2097000" y="2133720"/>
            <a:ext cx="387360" cy="6350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2097000" y="3068640"/>
            <a:ext cx="387360" cy="6350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>
            <a:off x="2097000" y="3873600"/>
            <a:ext cx="387360" cy="6350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>
            <a:off x="2097000" y="4797360"/>
            <a:ext cx="387360" cy="6350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097000" y="5746680"/>
            <a:ext cx="387360" cy="6350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67440" y="90792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.9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총선 투쟁계획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Oval 10"/>
          <p:cNvSpPr/>
          <p:nvPr/>
        </p:nvSpPr>
        <p:spPr>
          <a:xfrm rot="2700000">
            <a:off x="1982520" y="1351080"/>
            <a:ext cx="5178240" cy="51782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Oval 11"/>
          <p:cNvSpPr/>
          <p:nvPr/>
        </p:nvSpPr>
        <p:spPr>
          <a:xfrm>
            <a:off x="2514600" y="1967040"/>
            <a:ext cx="4124160" cy="39830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Arc 12"/>
          <p:cNvSpPr/>
          <p:nvPr/>
        </p:nvSpPr>
        <p:spPr>
          <a:xfrm rot="18900000">
            <a:off x="2066760" y="1929960"/>
            <a:ext cx="3075120" cy="216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Arc 13"/>
          <p:cNvSpPr/>
          <p:nvPr/>
        </p:nvSpPr>
        <p:spPr>
          <a:xfrm rot="13500000">
            <a:off x="2073960" y="3821760"/>
            <a:ext cx="3075120" cy="21589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Arc 14"/>
          <p:cNvSpPr/>
          <p:nvPr/>
        </p:nvSpPr>
        <p:spPr>
          <a:xfrm rot="2700000">
            <a:off x="3971880" y="1923840"/>
            <a:ext cx="3083040" cy="2159280"/>
          </a:xfrm>
          <a:prstGeom prst="pie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Arc 15"/>
          <p:cNvSpPr/>
          <p:nvPr/>
        </p:nvSpPr>
        <p:spPr>
          <a:xfrm rot="8100000">
            <a:off x="3919680" y="3822480"/>
            <a:ext cx="3076560" cy="215712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Oval 16"/>
          <p:cNvSpPr/>
          <p:nvPr/>
        </p:nvSpPr>
        <p:spPr>
          <a:xfrm>
            <a:off x="3608280" y="2997360"/>
            <a:ext cx="1928880" cy="1903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Arial"/>
              </a:rPr>
              <a:t>목  표</a:t>
            </a:r>
            <a:endParaRPr b="1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3038760" y="2525760"/>
            <a:ext cx="7801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Arial"/>
              </a:rPr>
              <a:t>계급투표</a:t>
            </a:r>
            <a:endParaRPr b="1" lang="en-US" sz="1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Arial"/>
              </a:rPr>
              <a:t>조직</a:t>
            </a:r>
            <a:endParaRPr b="1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5348880" y="2525760"/>
            <a:ext cx="10843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Arial"/>
              </a:rPr>
              <a:t>행복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10</a:t>
            </a:r>
            <a:endParaRPr b="1" lang="en-US" sz="1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Arial"/>
              </a:rPr>
              <a:t>전략실현</a:t>
            </a:r>
            <a:endParaRPr b="1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2675160" y="4859280"/>
            <a:ext cx="14216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Arial"/>
              </a:rPr>
              <a:t>당의 원내교섭단체</a:t>
            </a:r>
            <a:endParaRPr b="1" lang="en-US" sz="1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Arial"/>
              </a:rPr>
              <a:t>구성지원</a:t>
            </a:r>
            <a:endParaRPr b="1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Rectangle 20"/>
          <p:cNvSpPr/>
          <p:nvPr/>
        </p:nvSpPr>
        <p:spPr>
          <a:xfrm>
            <a:off x="5499360" y="4859280"/>
            <a:ext cx="7801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Arial"/>
              </a:rPr>
              <a:t>노동의제</a:t>
            </a:r>
            <a:endParaRPr b="1" lang="en-US" sz="1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Arial"/>
              </a:rPr>
              <a:t>전면화</a:t>
            </a:r>
            <a:endParaRPr b="1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Oval 21"/>
          <p:cNvSpPr/>
          <p:nvPr/>
        </p:nvSpPr>
        <p:spPr>
          <a:xfrm rot="2700000">
            <a:off x="1982520" y="1351080"/>
            <a:ext cx="5178240" cy="51782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Oval 22"/>
          <p:cNvSpPr/>
          <p:nvPr/>
        </p:nvSpPr>
        <p:spPr>
          <a:xfrm>
            <a:off x="2514600" y="1967040"/>
            <a:ext cx="4124160" cy="39830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Arc 23"/>
          <p:cNvSpPr/>
          <p:nvPr/>
        </p:nvSpPr>
        <p:spPr>
          <a:xfrm rot="18900000">
            <a:off x="2066760" y="1929960"/>
            <a:ext cx="3075120" cy="2160720"/>
          </a:xfrm>
          <a:prstGeom prst="pie">
            <a:avLst/>
          </a:prstGeom>
          <a:solidFill>
            <a:srgbClr val="c68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Arc 24"/>
          <p:cNvSpPr/>
          <p:nvPr/>
        </p:nvSpPr>
        <p:spPr>
          <a:xfrm rot="13500000">
            <a:off x="2073960" y="3821760"/>
            <a:ext cx="3075120" cy="21589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Arc 25"/>
          <p:cNvSpPr/>
          <p:nvPr/>
        </p:nvSpPr>
        <p:spPr>
          <a:xfrm rot="2700000">
            <a:off x="3971880" y="1923840"/>
            <a:ext cx="3083040" cy="2159280"/>
          </a:xfrm>
          <a:prstGeom prst="pie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Arc 26"/>
          <p:cNvSpPr/>
          <p:nvPr/>
        </p:nvSpPr>
        <p:spPr>
          <a:xfrm rot="8100000">
            <a:off x="3919680" y="3822480"/>
            <a:ext cx="3076560" cy="215712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Oval 27"/>
          <p:cNvSpPr/>
          <p:nvPr/>
        </p:nvSpPr>
        <p:spPr>
          <a:xfrm>
            <a:off x="3608280" y="2997360"/>
            <a:ext cx="1928880" cy="1903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총선투쟁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목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Rectangle 28"/>
          <p:cNvSpPr/>
          <p:nvPr/>
        </p:nvSpPr>
        <p:spPr>
          <a:xfrm>
            <a:off x="2318040" y="1989000"/>
            <a:ext cx="15739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계급투표 조직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Rectangle 29"/>
          <p:cNvSpPr/>
          <p:nvPr/>
        </p:nvSpPr>
        <p:spPr>
          <a:xfrm>
            <a:off x="5107680" y="1989000"/>
            <a:ext cx="2005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행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10&gt;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전략실현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Rectangle 30"/>
          <p:cNvSpPr/>
          <p:nvPr/>
        </p:nvSpPr>
        <p:spPr>
          <a:xfrm>
            <a:off x="2156400" y="4869000"/>
            <a:ext cx="157392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당의 원내교섭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단체 구성지원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Rectangle 31"/>
          <p:cNvSpPr/>
          <p:nvPr/>
        </p:nvSpPr>
        <p:spPr>
          <a:xfrm>
            <a:off x="5347800" y="4797360"/>
            <a:ext cx="10544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노동의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전면화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500"/>
                            </p:stCondLst>
                            <p:childTnLst>
                              <p:par>
                                <p:cTn id="5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667440" y="90792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.9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총선 투쟁계획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142920" y="2349360"/>
            <a:ext cx="8532720" cy="1592280"/>
          </a:xfrm>
          <a:prstGeom prst="rect">
            <a:avLst/>
          </a:prstGeom>
          <a:gradFill rotWithShape="0">
            <a:gsLst>
              <a:gs pos="0">
                <a:srgbClr val="767676">
                  <a:alpha val="30196"/>
                </a:srgbClr>
              </a:gs>
              <a:gs pos="100000">
                <a:srgbClr val="ffffff">
                  <a:alpha val="30196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135000" y="4508640"/>
            <a:ext cx="8613720" cy="158436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225360" y="2424240"/>
            <a:ext cx="1681200" cy="165096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225360" y="4586400"/>
            <a:ext cx="1682640" cy="165096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324000" y="4765680"/>
            <a:ext cx="1441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집중지원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392040" y="2784600"/>
            <a:ext cx="1443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집중지원대상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2001960" y="2637000"/>
            <a:ext cx="5715000" cy="92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노동자 밀집지역 집중지원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민주노총 후보 지원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2013120" y="4797360"/>
            <a:ext cx="5715000" cy="101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인력과 재정 집중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노동조합의 상근인력 파견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모든 상근간부와 대의원의 선거운동원 결합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선거투쟁 실무적 지원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13"/>
          <p:cNvSpPr/>
          <p:nvPr/>
        </p:nvSpPr>
        <p:spPr>
          <a:xfrm>
            <a:off x="755640" y="1557360"/>
            <a:ext cx="388764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100000">
                <a:srgbClr val="5672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집중지원 대상 및 방식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928800" y="1143000"/>
            <a:ext cx="764388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3260"/>
                </a:solidFill>
                <a:latin typeface="HY동녘B"/>
                <a:ea typeface="HY동녘B"/>
              </a:rPr>
              <a:t>2) </a:t>
            </a:r>
            <a:r>
              <a:rPr b="0" lang="ko-KR" sz="4000" spc="-1" strike="noStrike">
                <a:solidFill>
                  <a:srgbClr val="373260"/>
                </a:solidFill>
                <a:latin typeface="HY동녘B"/>
                <a:ea typeface="HY동녘B"/>
              </a:rPr>
              <a:t>조 직 사 업 기조</a:t>
            </a:r>
            <a:endParaRPr b="1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■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현장조직력 강화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■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비정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미조직 사업 본격화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■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산별노조 강화로 대산별노조 건설 기반 마련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■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조직혁신 사업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928800" y="1143000"/>
            <a:ext cx="764388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3260"/>
                </a:solidFill>
                <a:latin typeface="HY동녘B"/>
                <a:ea typeface="HY동녘B"/>
              </a:rPr>
              <a:t>3) </a:t>
            </a:r>
            <a:r>
              <a:rPr b="0" lang="ko-KR" sz="4000" spc="-1" strike="noStrike">
                <a:solidFill>
                  <a:srgbClr val="373260"/>
                </a:solidFill>
                <a:latin typeface="HY동녘B"/>
                <a:ea typeface="HY동녘B"/>
              </a:rPr>
              <a:t>정책</a:t>
            </a:r>
            <a:r>
              <a:rPr b="0" lang="en-US" sz="4000" spc="-1" strike="noStrike">
                <a:solidFill>
                  <a:srgbClr val="373260"/>
                </a:solidFill>
                <a:latin typeface="HY동녘B"/>
                <a:ea typeface="HY동녘B"/>
              </a:rPr>
              <a:t>.</a:t>
            </a:r>
            <a:r>
              <a:rPr b="0" lang="ko-KR" sz="4000" spc="-1" strike="noStrike">
                <a:solidFill>
                  <a:srgbClr val="373260"/>
                </a:solidFill>
                <a:latin typeface="HY동녘B"/>
                <a:ea typeface="HY동녘B"/>
              </a:rPr>
              <a:t>교육선전 사업 기조</a:t>
            </a:r>
            <a:endParaRPr b="1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■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책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교육선전사업 체계화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효율화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■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정부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국회 개입력 강화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■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산별노조 강화로 대산별노조 건설 기반 마련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■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조직혁신 사업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684360" y="1143000"/>
            <a:ext cx="821520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3260"/>
                </a:solidFill>
                <a:latin typeface="HY동녘B"/>
                <a:ea typeface="HY동녘B"/>
              </a:rPr>
              <a:t>4) </a:t>
            </a:r>
            <a:r>
              <a:rPr b="0" lang="ko-KR" sz="4000" spc="-1" strike="noStrike">
                <a:solidFill>
                  <a:srgbClr val="373260"/>
                </a:solidFill>
                <a:latin typeface="HY동녘B"/>
                <a:ea typeface="HY동녘B"/>
              </a:rPr>
              <a:t>정치</a:t>
            </a:r>
            <a:r>
              <a:rPr b="0" lang="en-US" sz="4000" spc="-1" strike="noStrike">
                <a:solidFill>
                  <a:srgbClr val="373260"/>
                </a:solidFill>
                <a:latin typeface="HY동녘B"/>
                <a:ea typeface="HY동녘B"/>
              </a:rPr>
              <a:t>.</a:t>
            </a:r>
            <a:r>
              <a:rPr b="0" lang="ko-KR" sz="4000" spc="-1" strike="noStrike">
                <a:solidFill>
                  <a:srgbClr val="373260"/>
                </a:solidFill>
                <a:latin typeface="HY동녘B"/>
                <a:ea typeface="HY동녘B"/>
              </a:rPr>
              <a:t>연대 사업 기조</a:t>
            </a:r>
            <a:endParaRPr b="1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■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원내교섭단체 확보 및 민주노동당과의 협력강화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■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노농연대 대중화에 기초한 연대전선 강화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■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한반도 평화실현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674640" y="907920"/>
            <a:ext cx="22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노골적 신자유주의 정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22"/>
          <p:cNvSpPr/>
          <p:nvPr/>
        </p:nvSpPr>
        <p:spPr>
          <a:xfrm>
            <a:off x="571680" y="1857240"/>
            <a:ext cx="257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기업 바겐세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"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_x97267456" descr="EMB0000091c573b"/>
          <p:cNvPicPr/>
          <p:nvPr/>
        </p:nvPicPr>
        <p:blipFill>
          <a:blip r:embed="rId1"/>
          <a:stretch/>
        </p:blipFill>
        <p:spPr>
          <a:xfrm>
            <a:off x="3571920" y="857160"/>
            <a:ext cx="5572080" cy="5718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5"/>
          <p:cNvSpPr/>
          <p:nvPr/>
        </p:nvSpPr>
        <p:spPr>
          <a:xfrm>
            <a:off x="0" y="1341360"/>
            <a:ext cx="9144000" cy="2158920"/>
          </a:xfrm>
          <a:prstGeom prst="rect">
            <a:avLst/>
          </a:prstGeom>
          <a:solidFill>
            <a:srgbClr val="c68d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TextBox 5"/>
          <p:cNvSpPr/>
          <p:nvPr/>
        </p:nvSpPr>
        <p:spPr>
          <a:xfrm>
            <a:off x="1000080" y="1428840"/>
            <a:ext cx="72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000000"/>
                </a:solidFill>
                <a:latin typeface="HY견명조"/>
                <a:ea typeface="HY견명조"/>
              </a:rPr>
              <a:t>수고</a:t>
            </a:r>
            <a:endParaRPr b="1" lang="en-US" sz="6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000000"/>
                </a:solidFill>
                <a:latin typeface="HY견명조"/>
                <a:ea typeface="HY견명조"/>
              </a:rPr>
              <a:t>하셨습니다</a:t>
            </a:r>
            <a:r>
              <a:rPr b="1" lang="en-US" sz="6000" spc="-1" strike="noStrike">
                <a:solidFill>
                  <a:srgbClr val="000000"/>
                </a:solidFill>
                <a:latin typeface="HY견명조"/>
                <a:ea typeface="HY견명조"/>
              </a:rPr>
              <a:t>.</a:t>
            </a:r>
            <a:endParaRPr b="1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674640" y="907920"/>
            <a:ext cx="22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노골적 신자유주의 정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_x34918824" descr="EMB0000091c573f"/>
          <p:cNvPicPr/>
          <p:nvPr/>
        </p:nvPicPr>
        <p:blipFill>
          <a:blip r:embed="rId1"/>
          <a:stretch/>
        </p:blipFill>
        <p:spPr>
          <a:xfrm>
            <a:off x="0" y="2214720"/>
            <a:ext cx="4714920" cy="43210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_x97207144" descr="EMB0000091c5741"/>
          <p:cNvPicPr/>
          <p:nvPr/>
        </p:nvPicPr>
        <p:blipFill>
          <a:blip r:embed="rId2"/>
          <a:stretch/>
        </p:blipFill>
        <p:spPr>
          <a:xfrm>
            <a:off x="4714920" y="890640"/>
            <a:ext cx="4429080" cy="56595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2"/>
          <p:cNvSpPr/>
          <p:nvPr/>
        </p:nvSpPr>
        <p:spPr>
          <a:xfrm>
            <a:off x="0" y="1357200"/>
            <a:ext cx="52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금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교육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료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세금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?”  -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어떻게 되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674640" y="907920"/>
            <a:ext cx="22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노골적 신자유주의 정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Picture 1" descr="E:\2008정세\그림1.png"/>
          <p:cNvPicPr/>
          <p:nvPr/>
        </p:nvPicPr>
        <p:blipFill>
          <a:blip r:embed="rId1"/>
          <a:stretch/>
        </p:blipFill>
        <p:spPr>
          <a:xfrm>
            <a:off x="2071800" y="1214280"/>
            <a:ext cx="4986360" cy="5168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701640" y="907920"/>
            <a:ext cx="236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발독재식 성장주의 정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22"/>
          <p:cNvSpPr/>
          <p:nvPr/>
        </p:nvSpPr>
        <p:spPr>
          <a:xfrm>
            <a:off x="6000840" y="1785960"/>
            <a:ext cx="2571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뭔가  실용적이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?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명박식 인기영합주의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8" name="Picture 1" descr="E:\2008정세\8703_8229_3313.gif"/>
          <p:cNvPicPr/>
          <p:nvPr/>
        </p:nvPicPr>
        <p:blipFill>
          <a:blip r:embed="rId1"/>
          <a:stretch/>
        </p:blipFill>
        <p:spPr>
          <a:xfrm>
            <a:off x="0" y="1500120"/>
            <a:ext cx="5572080" cy="5048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E:\2008정세\04783230_20071231.jpg"/>
          <p:cNvPicPr/>
          <p:nvPr/>
        </p:nvPicPr>
        <p:blipFill>
          <a:blip r:embed="rId2"/>
          <a:stretch/>
        </p:blipFill>
        <p:spPr>
          <a:xfrm>
            <a:off x="5565600" y="3500280"/>
            <a:ext cx="3578400" cy="306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701640" y="907920"/>
            <a:ext cx="236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발독재식 성장주의 정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22"/>
          <p:cNvSpPr/>
          <p:nvPr/>
        </p:nvSpPr>
        <p:spPr>
          <a:xfrm>
            <a:off x="4572000" y="10717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토건주의식 개발지상주의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한반도대운하와 부동산 투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"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6" name="_x33977232" descr="DRW0000091c574c"/>
          <p:cNvPicPr/>
          <p:nvPr/>
        </p:nvPicPr>
        <p:blipFill>
          <a:blip r:embed="rId1"/>
          <a:stretch/>
        </p:blipFill>
        <p:spPr>
          <a:xfrm>
            <a:off x="0" y="1500120"/>
            <a:ext cx="407196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_x97263432" descr="EMB0000091c5745"/>
          <p:cNvPicPr/>
          <p:nvPr/>
        </p:nvPicPr>
        <p:blipFill>
          <a:blip r:embed="rId2"/>
          <a:stretch/>
        </p:blipFill>
        <p:spPr>
          <a:xfrm>
            <a:off x="4067280" y="1928880"/>
            <a:ext cx="5076720" cy="459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451080" y="260280"/>
            <a:ext cx="29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정세와 과제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Line 3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1063440" y="907920"/>
            <a:ext cx="406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노골적 신자유주의</a:t>
            </a: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발독재식 성장주의의 결과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22"/>
          <p:cNvSpPr/>
          <p:nvPr/>
        </p:nvSpPr>
        <p:spPr>
          <a:xfrm>
            <a:off x="928800" y="17146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한국경제  파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5" name="_x33903576" descr="EMB0000091c574e"/>
          <p:cNvPicPr/>
          <p:nvPr/>
        </p:nvPicPr>
        <p:blipFill>
          <a:blip r:embed="rId1"/>
          <a:stretch/>
        </p:blipFill>
        <p:spPr>
          <a:xfrm>
            <a:off x="0" y="2500200"/>
            <a:ext cx="4572000" cy="4046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E:\2008정세\img_42_2066_3.jpg"/>
          <p:cNvPicPr/>
          <p:nvPr/>
        </p:nvPicPr>
        <p:blipFill>
          <a:blip r:embed="rId2"/>
          <a:stretch/>
        </p:blipFill>
        <p:spPr>
          <a:xfrm>
            <a:off x="4572000" y="2500200"/>
            <a:ext cx="4572000" cy="40719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0"/>
          <p:cNvSpPr/>
          <p:nvPr/>
        </p:nvSpPr>
        <p:spPr>
          <a:xfrm>
            <a:off x="5786280" y="17146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민생파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2:37:18Z</dcterms:created>
  <dc:creator>ARTCOM PT</dc:creator>
  <dc:description>본 디자인은 ARTCOM PT연구소에 저작권이 있습니다.</dc:description>
  <dc:language>en-US</dc:language>
  <cp:lastModifiedBy>CGSComputer</cp:lastModifiedBy>
  <dcterms:modified xsi:type="dcterms:W3CDTF">2008-02-14T08:36:06Z</dcterms:modified>
  <cp:revision>223</cp:revision>
  <dc:subject/>
  <dc:title>슬라이드 1</dc:title>
</cp:coreProperties>
</file>