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744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7440" y="937224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40BC7FA-1884-49FA-8EF9-D30EF785EE0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조업에 국한되어 있는 국가연구개발지원사업이 서비스업으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장되어야 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마케팅의 기초적 자료가 되고 광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방송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디자인 등에서 공통적으로 활용될 수 있는 소비자계층분석에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한 기초연구 등은 공공재적 성격을 가지므로 국가적 지원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필요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또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조업 중심의 산업정책과 개별 서비스업 육성정책간 입체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결합이 필요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료 서비스의 예를 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병원을 중심으로 제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및 바이오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료관광업체간 연계가 필요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빠르게 진행되고 있는 서비스업의 국제화에 대비해야 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동아시아 개도국들의  우리 문화상품에 대한 수요 증대는 물론 이들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개도국들의 시장경제 발전으로 수요가 증대될 법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회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경영자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등의 사업서비스 시장을 선점해야 할 것입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음에는 성장동력 확보를 위한 당면과제에 관하여 말씀드리겠습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음에는 성장동력 확보를 위한 당면과제에 관하여 말씀드리겠습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가장 시급한 것은 서비스의 품질이 소비자들에 의해 평가받음으로써 시장거래가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활성화될 수 있도록 규제가 대폭적으로 개혁되어야  한다는 점입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법률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의료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문화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복지 등에서 소비자 보호 등의 공공성을 이유로 국가가 품질을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통제하는 현행 규제제체가 전면 개편되어 소비자들에게 판단의 기회를 돌려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주어야 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이와 함께 이러한 규제가 오히려 강화되도록 영향을 가하고 있는 일부 시민단체들에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대한 경제교육의 확대가 필요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서비스업체간의 경쟁이 촉진되어야 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인력공급을 제한할 뿐만 아니라 암묵적 담합을 보이고 있는 법률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의료 등에서 경쟁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촉진될 수 있도록 광고가 허용되고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영리법인화 등의 조치가 필요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또한 국가가 독점하고 있는 방송광고공사의 광고독점판매 규제가 철폐되어야 합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전문가들에 의하면 방송광고의 독점규제가 폐지될 경우  시청률 경쟁이 높아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드라마 등을 제작하는 방송외주제작업체들의 시장이 확대될 수 있고 이들에게  소재를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공급하는 문화산업의  성장이 유발될 뿐만 아니라 스포츠산업까지도 활성화되는 등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파급효과가 지대할 것으로   전망하고 있습니다</a:t>
            </a:r>
            <a:r>
              <a:rPr b="0" lang="ko-KR" sz="1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서비스업의 경우에도 기업현장의 수요에 적합한 인력양성체계 확립이 가장 핵심적 과제입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법률전문대학원 제도의 조속한 확립은 물론 분야별로 전문가들을 양성할 수 있는 교육체제의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확립이 필요합니다</a:t>
            </a:r>
            <a:r>
              <a:rPr b="0" lang="ko-KR" sz="9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조업에 국한되어 있는 국가연구개발지원사업이 서비스업으로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확장되어야 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예를 들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마케팅의 기초적 자료가 되고 광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방송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디자인 등에서 공통적으로 활용될 수 있는 소비자계층분석에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대한 기초연구 등은 공공재적 성격을 가지므로 국가적 지원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필요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또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제조업 중심의 산업정책과 개별 서비스업 육성정책간 입체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결합이 필요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료 서비스의 예를 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병원을 중심으로 제약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및 바이오벤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의료관광업체간 연계가 필요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빠르게 진행되고 있는 서비스업의 국제화에 대비해야 합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동아시아 개도국들의  우리 문화상품에 대한 수요 증대는 물론 이들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개도국들의 시장경제 발전으로 수요가 증대될 법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회계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경영자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등의 사업서비스 시장을 선점해야 할 것입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음에는 성장동력 확보를 위한 당면과제에 관하여 말씀드리겠습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6760" y="4686120"/>
            <a:ext cx="494208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다음에는 성장동력 확보를 위한 당면과제에 관하여 말씀드리겠습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2110-4500-406B-8C9D-46DFF9F3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7DC3-6797-4624-9450-EBA9CC51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DBED-3862-4326-86C8-B82BAA85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F5BF-5577-4108-975B-B21D37B0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148A-53F8-49D7-8179-15BC84F6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C13C-15F1-4E6C-833D-DDFB1CD0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2E5-E9E5-4706-858E-393BE63A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A78-1667-4B01-A81F-651F9EAB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87D9-BCC3-4961-A15C-12D74916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72DF-A465-4C9A-B100-FDCB998B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9DF4-34D5-4EEF-A07E-CA6CBA8D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3797-3F64-4670-94BF-2A4A9D2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7A73-080C-4E6D-ACAA-F3B481E19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135600" y="1266840"/>
            <a:ext cx="377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서비스산업의  선진화</a:t>
            </a:r>
            <a:r>
              <a:rPr b="0" lang="en-US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무엇이  필요한가</a:t>
            </a:r>
            <a:r>
              <a:rPr b="0" lang="en-US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788640"/>
            <a:ext cx="51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HY견고딕"/>
                <a:ea typeface="HY견고딕"/>
              </a:rPr>
              <a:t>2009. 3. 10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4921200"/>
            <a:ext cx="5775120" cy="1483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HY견고딕"/>
                <a:ea typeface="HY견고딕"/>
              </a:rPr>
              <a:t>               </a:t>
            </a:r>
            <a:r>
              <a:rPr b="0" lang="zh-CN" sz="3600" spc="-1" strike="noStrike">
                <a:solidFill>
                  <a:srgbClr val="003366"/>
                </a:solidFill>
                <a:latin typeface="HY견고딕"/>
                <a:ea typeface="HY견고딕"/>
              </a:rPr>
              <a:t>김  주  훈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HY견고딕"/>
                <a:ea typeface="HY견고딕"/>
              </a:rPr>
              <a:t>        </a:t>
            </a:r>
            <a:r>
              <a:rPr b="0" lang="zh-CN" sz="3200" spc="-1" strike="noStrike">
                <a:solidFill>
                  <a:srgbClr val="003366"/>
                </a:solidFill>
                <a:latin typeface="HY견고딕"/>
                <a:ea typeface="HY견고딕"/>
              </a:rPr>
              <a:t>한 국 개 발 연 구 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의  구조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125360"/>
            <a:ext cx="791352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생산성이 높은 금융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업서비스업 등의 비중이 낮은 구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12536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9"/>
          <p:cNvSpPr/>
          <p:nvPr/>
        </p:nvSpPr>
        <p:spPr>
          <a:xfrm>
            <a:off x="1332000" y="2611440"/>
            <a:ext cx="698508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주요국의 금융 및 사업서비스업 비중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고용 기준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, 06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년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768240" y="1593720"/>
            <a:ext cx="7907400" cy="7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생산성 업종의 낮은 비중은 전체 서비스업의 생산성을 낮추는 요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격제 등 진입규제와 교육의 문제로 </a:t>
            </a:r>
            <a:r>
              <a:rPr b="0" lang="ko-KR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이권추구적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Rent-seeking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업환경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2975040"/>
          <a:ext cx="8136000" cy="398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975040"/>
                    <a:ext cx="813600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의  구조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125360"/>
            <a:ext cx="791352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체계의 취약으로 사회서비스업의 비중이 낮은 구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112536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"/>
          <p:cNvSpPr/>
          <p:nvPr/>
        </p:nvSpPr>
        <p:spPr>
          <a:xfrm>
            <a:off x="1187280" y="2611440"/>
            <a:ext cx="727236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주요국의 공공행정 및 사회서비스업 비중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고용 기준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, 06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년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4"/>
          <p:cNvSpPr/>
          <p:nvPr/>
        </p:nvSpPr>
        <p:spPr>
          <a:xfrm>
            <a:off x="768240" y="1593720"/>
            <a:ext cx="7907400" cy="7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서비스업의 낮은 비중이 선진국과 가장 현격한 차이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재정지출 비중이 낮고 의료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육 등의 </a:t>
            </a:r>
            <a:r>
              <a:rPr b="0" lang="zh-CN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공공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강조로 산업으로서 성장이 부실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39640" y="3068640"/>
          <a:ext cx="8064720" cy="3816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068640"/>
                    <a:ext cx="8064720" cy="38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의  이중적 구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4"/>
          <p:cNvSpPr/>
          <p:nvPr/>
        </p:nvSpPr>
        <p:spPr>
          <a:xfrm>
            <a:off x="552600" y="1197000"/>
            <a:ext cx="83404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경쟁제한적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지식기반서비스와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과당경쟁적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노동집약서비스의 이중구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552600" y="1654200"/>
            <a:ext cx="8340480" cy="1127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식기반 서비스업의 고수익은 혁신보다 경쟁제한적 이익의 실현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노동집약적 서비스업에서는 지식기반의 진입장벽이 낮아 과당경쟁 초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저숙련 인력의 과잉 진입에도 불구하고 </a:t>
            </a:r>
            <a:r>
              <a:rPr b="0" lang="ko-KR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퇴출 저항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출혈적</a:t>
            </a:r>
            <a:r>
              <a:rPr b="0" lang="ko-KR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 가격경쟁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보임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16"/>
          <p:cNvSpPr/>
          <p:nvPr/>
        </p:nvSpPr>
        <p:spPr>
          <a:xfrm>
            <a:off x="324000" y="119700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7"/>
          <p:cNvSpPr/>
          <p:nvPr/>
        </p:nvSpPr>
        <p:spPr>
          <a:xfrm>
            <a:off x="2195640" y="3573360"/>
            <a:ext cx="496872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우리나라 서비스산업의 본질적 속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41600" y="4437000"/>
            <a:ext cx="2101680" cy="504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95640" y="4941720"/>
            <a:ext cx="2446200" cy="93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654440" y="4437000"/>
            <a:ext cx="2221200" cy="5047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3280" y="4941720"/>
            <a:ext cx="2592720" cy="93528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81360" y="4529160"/>
            <a:ext cx="1519200" cy="32220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2843280" y="4581360"/>
            <a:ext cx="145872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생산자 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2913120" y="5300640"/>
            <a:ext cx="1297080" cy="33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유통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5291280" y="4581360"/>
            <a:ext cx="115236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5146560" y="5319720"/>
            <a:ext cx="1511280" cy="34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소비자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324000" y="4506840"/>
            <a:ext cx="115092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경쟁제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324000" y="5300640"/>
            <a:ext cx="115092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과잉진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7742160" y="4508640"/>
            <a:ext cx="115092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이권추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1"/>
          <p:cNvSpPr/>
          <p:nvPr/>
        </p:nvSpPr>
        <p:spPr>
          <a:xfrm>
            <a:off x="7740720" y="5300640"/>
            <a:ext cx="115092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가격경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4"/>
          <p:cNvSpPr/>
          <p:nvPr/>
        </p:nvSpPr>
        <p:spPr>
          <a:xfrm>
            <a:off x="1619280" y="4508640"/>
            <a:ext cx="388800" cy="287280"/>
          </a:xfrm>
          <a:prstGeom prst="rightArrow">
            <a:avLst>
              <a:gd name="adj1" fmla="val 50000"/>
              <a:gd name="adj2" fmla="val 33835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14"/>
          <p:cNvSpPr/>
          <p:nvPr/>
        </p:nvSpPr>
        <p:spPr>
          <a:xfrm>
            <a:off x="1619280" y="5300640"/>
            <a:ext cx="388800" cy="287280"/>
          </a:xfrm>
          <a:prstGeom prst="rightArrow">
            <a:avLst>
              <a:gd name="adj1" fmla="val 50000"/>
              <a:gd name="adj2" fmla="val 33835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4"/>
          <p:cNvSpPr/>
          <p:nvPr/>
        </p:nvSpPr>
        <p:spPr>
          <a:xfrm>
            <a:off x="7278840" y="4508640"/>
            <a:ext cx="388800" cy="287280"/>
          </a:xfrm>
          <a:prstGeom prst="rightArrow">
            <a:avLst>
              <a:gd name="adj1" fmla="val 50000"/>
              <a:gd name="adj2" fmla="val 33835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14"/>
          <p:cNvSpPr/>
          <p:nvPr/>
        </p:nvSpPr>
        <p:spPr>
          <a:xfrm>
            <a:off x="7308720" y="5302080"/>
            <a:ext cx="389160" cy="287640"/>
          </a:xfrm>
          <a:prstGeom prst="rightArrow">
            <a:avLst>
              <a:gd name="adj1" fmla="val 50000"/>
              <a:gd name="adj2" fmla="val 33824"/>
            </a:avLst>
          </a:prstGeom>
          <a:solidFill>
            <a:srgbClr val="99cc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3780000" y="3068640"/>
            <a:ext cx="5364000" cy="72072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III.  </a:t>
            </a:r>
            <a:r>
              <a:rPr b="0" lang="zh-CN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서비스산업의  문제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제도적  문제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(1)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진입규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9"/>
          <p:cNvSpPr/>
          <p:nvPr/>
        </p:nvSpPr>
        <p:spPr>
          <a:xfrm>
            <a:off x="1979640" y="2997360"/>
            <a:ext cx="5616720" cy="43164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GDP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대비 사업서비스 비중의 증가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’95~’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120" y="1052640"/>
            <a:ext cx="791352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자격제도에 의한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진입장벽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으로 지식기반 서비스업의 성장이 제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1052640"/>
            <a:ext cx="4442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768240" y="1521000"/>
            <a:ext cx="7907400" cy="1331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4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서비스 업종 중 약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/3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업종에서 진입장벽이 부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의 변호사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인당 국민수는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OECD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최고로서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OECD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의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OECD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는 로스쿨 정원의 상향 조정 및 궁극적 폐지를 권고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8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보고서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격사 취업 비중이 높은 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사업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성장이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OECD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보다 저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68360" y="3357720"/>
          <a:ext cx="8064360" cy="345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357720"/>
                    <a:ext cx="806436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제도적  문제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(2)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규제개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9"/>
          <p:cNvSpPr/>
          <p:nvPr/>
        </p:nvSpPr>
        <p:spPr>
          <a:xfrm>
            <a:off x="468360" y="3139920"/>
            <a:ext cx="3672000" cy="36036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00"/>
                </a:solidFill>
                <a:latin typeface="HY견고딕"/>
                <a:ea typeface="HY견고딕"/>
              </a:rPr>
              <a:t>제조업의 규제와 마크업간 관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2600" y="1052640"/>
            <a:ext cx="819612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규제는 서비스업체가 혁신보다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이권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추구하게 하는 행태 유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052640"/>
            <a:ext cx="46008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558720" y="1521000"/>
            <a:ext cx="8190000" cy="1331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해외경쟁에 노출된 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제조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서는 경쟁제한을 통한 이권추구 기회가 희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에서 규제는 이권의 실익 없이 부담만 가중시켜 규제완화 요구가 강함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교역 부문인 </a:t>
            </a:r>
            <a:r>
              <a:rPr b="0" lang="ko-KR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서비스업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서는 규제를 통해 이권을 존속시키려는 유인이 강함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로 인해 서비스업에서는 규제개혁에 저항하는 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집단이기주의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가 만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08000" y="3500280"/>
          <a:ext cx="4392720" cy="33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500280"/>
                    <a:ext cx="439272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427640" y="3500280"/>
          <a:ext cx="4608360" cy="3457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27640" y="3500280"/>
                    <a:ext cx="4608360" cy="34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AutoShape 9"/>
          <p:cNvSpPr/>
          <p:nvPr/>
        </p:nvSpPr>
        <p:spPr>
          <a:xfrm>
            <a:off x="4932360" y="3139920"/>
            <a:ext cx="3816360" cy="36036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00"/>
                </a:solidFill>
                <a:latin typeface="HY견고딕"/>
                <a:ea typeface="HY견고딕"/>
              </a:rPr>
              <a:t>비제조업의 규제와 마크업간 관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제도적 문제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(3)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기업규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3"/>
          <p:cNvSpPr/>
          <p:nvPr/>
        </p:nvSpPr>
        <p:spPr>
          <a:xfrm>
            <a:off x="466560" y="1176480"/>
            <a:ext cx="8382240" cy="46800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본시장의 미발달로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자본유입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애로를 겪어 서비스기업의 성장 지체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66560" y="1633680"/>
            <a:ext cx="8382240" cy="11476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담보위주의 금융관행으로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무형자산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기초한 서비스업체의 자금조달에 애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의 경제수준에 비해 지나치게 높은 자영업자 비율을 설명하는 주요한 요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료 등에서는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공공성 규제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로 인하여 외부자본의 유입 기회를 차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6"/>
          <p:cNvSpPr/>
          <p:nvPr/>
        </p:nvSpPr>
        <p:spPr>
          <a:xfrm>
            <a:off x="228600" y="1176480"/>
            <a:ext cx="46656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9"/>
          <p:cNvSpPr/>
          <p:nvPr/>
        </p:nvSpPr>
        <p:spPr>
          <a:xfrm>
            <a:off x="1979640" y="2997360"/>
            <a:ext cx="518472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 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도소매업의  평균 사업체 규모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2005)``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95280" y="3357720"/>
          <a:ext cx="835344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357720"/>
                    <a:ext cx="835344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식기반의 문제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(1)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연구개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9"/>
          <p:cNvSpPr/>
          <p:nvPr/>
        </p:nvSpPr>
        <p:spPr>
          <a:xfrm>
            <a:off x="1979640" y="2827440"/>
            <a:ext cx="561672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R&amp;D 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지출중 서비스업의 점유 비중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125360"/>
            <a:ext cx="791352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R&amp;D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대부분은 제조업에서 이루어지며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비스업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%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불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112536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768240" y="1593720"/>
            <a:ext cx="7907400" cy="10432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더욱이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R&amp;D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출의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0%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는 통신 및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IT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관련 서비스에서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의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GDP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중 서비스업 비중은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7%, R&amp;D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출중 서비스업 비중은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미국의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GDP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중 서비스업 비중은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6%, R&amp;D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출중 서비스업 비중은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%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4000" y="3284640"/>
          <a:ext cx="8208720" cy="35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84640"/>
                    <a:ext cx="8208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2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식기반의 문제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(2)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인적자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3"/>
          <p:cNvSpPr/>
          <p:nvPr/>
        </p:nvSpPr>
        <p:spPr>
          <a:xfrm>
            <a:off x="466560" y="1176480"/>
            <a:ext cx="8382240" cy="46800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의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기식기반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낮아 혁신 경쟁보다 가격 경쟁으로 대처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466560" y="1633680"/>
            <a:ext cx="8382240" cy="13636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의 혁신능력은 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인적자원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체화       제조업의 기술혁신과 차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R&amp;D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부서가 전담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 종업원이 혁신 담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선진국에 비해 지식기반형 업종에서도 ‘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단순기능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’의 인력 비중이 높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예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외국에 비해 금융산업 종사자중 단순인력 비중이 높은 상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6"/>
          <p:cNvSpPr/>
          <p:nvPr/>
        </p:nvSpPr>
        <p:spPr>
          <a:xfrm>
            <a:off x="228600" y="1176480"/>
            <a:ext cx="46656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1700280"/>
            <a:ext cx="360360" cy="287280"/>
          </a:xfrm>
          <a:prstGeom prst="leftRightArrow">
            <a:avLst>
              <a:gd name="adj1" fmla="val 50000"/>
              <a:gd name="adj2" fmla="val 24971"/>
            </a:avLst>
          </a:prstGeom>
          <a:solidFill>
            <a:srgbClr val="cc99ff"/>
          </a:solidFill>
          <a:ln w="0">
            <a:noFill/>
          </a:ln>
          <a:effectLst>
            <a:outerShdw dist="17819" dir="2700000" blurRad="0" rotWithShape="0">
              <a:srgbClr val="79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3716280"/>
          <a:ext cx="8435880" cy="311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16280"/>
                    <a:ext cx="8435880" cy="31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AutoShape 9"/>
          <p:cNvSpPr/>
          <p:nvPr/>
        </p:nvSpPr>
        <p:spPr>
          <a:xfrm>
            <a:off x="2195640" y="3332160"/>
            <a:ext cx="532908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금융산업  인적자원 구성의 국제비교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``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AutoShape 2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지식기반의 문제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(3)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혁신역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345960" y="1176480"/>
            <a:ext cx="8547120" cy="46800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에서 요구되는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창의적 인재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육성을 위한 교육체계가 미흡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345960" y="1633680"/>
            <a:ext cx="8547120" cy="17953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의 경쟁력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현장에서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고객수요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포착하고 개별화시켜 공급하는 능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의 혁신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량생산을 염두에 둔 기술개발이 핵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 혁신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객과 접하는 종사자의 </a:t>
            </a:r>
            <a:r>
              <a:rPr b="0" lang="zh-CN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전문성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과 </a:t>
            </a:r>
            <a:r>
              <a:rPr b="0" lang="zh-CN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창의력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결정적 요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규제는 서비스업체의 고객수요에 관한 정보파악 유인을 반감시켜 혁신을 저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창의성보다는 정형화된 지식의 주입에 편향된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교육체계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개선이 시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6"/>
          <p:cNvSpPr/>
          <p:nvPr/>
        </p:nvSpPr>
        <p:spPr>
          <a:xfrm>
            <a:off x="108000" y="1176480"/>
            <a:ext cx="47628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468360" y="3692520"/>
            <a:ext cx="331164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제조업의 혁신 개념도 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``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4869000"/>
            <a:ext cx="1368360" cy="1295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5300640"/>
            <a:ext cx="93636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492360" y="4797360"/>
            <a:ext cx="503280" cy="151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836720" y="5300640"/>
            <a:ext cx="10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상품기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3564000" y="5084640"/>
            <a:ext cx="287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1"/>
          <p:cNvSpPr/>
          <p:nvPr/>
        </p:nvSpPr>
        <p:spPr>
          <a:xfrm>
            <a:off x="324000" y="5372280"/>
            <a:ext cx="792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R&amp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60360" y="544500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99280" y="4869000"/>
            <a:ext cx="1368360" cy="1295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32360" y="5300640"/>
            <a:ext cx="936720" cy="358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72360" y="4797360"/>
            <a:ext cx="503280" cy="1511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6516720" y="5372280"/>
            <a:ext cx="10080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상품기획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창의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1"/>
          <p:cNvSpPr/>
          <p:nvPr/>
        </p:nvSpPr>
        <p:spPr>
          <a:xfrm>
            <a:off x="8244000" y="5084640"/>
            <a:ext cx="28728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5005440" y="5372280"/>
            <a:ext cx="792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문지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0360" y="544500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9"/>
          <p:cNvSpPr/>
          <p:nvPr/>
        </p:nvSpPr>
        <p:spPr>
          <a:xfrm>
            <a:off x="5292720" y="3716280"/>
            <a:ext cx="331164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서비스업의 혁신 개념도 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``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/>
          <p:nvPr/>
        </p:nvCxnSpPr>
        <p:spPr>
          <a:xfrm>
            <a:off x="1258920" y="5444640"/>
            <a:ext cx="288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3" name=""/>
          <p:cNvCxnSpPr/>
          <p:nvPr/>
        </p:nvCxnSpPr>
        <p:spPr>
          <a:xfrm flipH="1">
            <a:off x="7741440" y="5516280"/>
            <a:ext cx="3596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4" name=""/>
          <p:cNvCxnSpPr/>
          <p:nvPr/>
        </p:nvCxnSpPr>
        <p:spPr>
          <a:xfrm flipH="1">
            <a:off x="3060000" y="5444640"/>
            <a:ext cx="359640" cy="1080"/>
          </a:xfrm>
          <a:prstGeom prst="straightConnector1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35" name=""/>
          <p:cNvSpPr/>
          <p:nvPr/>
        </p:nvSpPr>
        <p:spPr>
          <a:xfrm>
            <a:off x="3059280" y="5013360"/>
            <a:ext cx="360360" cy="936720"/>
          </a:xfrm>
          <a:prstGeom prst="ellipse">
            <a:avLst/>
          </a:prstGeom>
          <a:noFill/>
          <a:ln cap="rnd" w="255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740720" y="5084640"/>
            <a:ext cx="360360" cy="936720"/>
          </a:xfrm>
          <a:prstGeom prst="ellipse">
            <a:avLst/>
          </a:prstGeom>
          <a:noFill/>
          <a:ln cap="rnd" w="255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/>
          <p:nvPr/>
        </p:nvCxnSpPr>
        <p:spPr>
          <a:xfrm>
            <a:off x="5940360" y="5444640"/>
            <a:ext cx="2880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438280" y="2205000"/>
            <a:ext cx="6705720" cy="55728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I</a:t>
            </a: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.   </a:t>
            </a:r>
            <a:r>
              <a:rPr b="0" lang="zh-CN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서비스산업의 위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0800" y="836640"/>
            <a:ext cx="1079280" cy="107964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arcTo wR="0" hR="0" stAng="16200000" swAng="-5400000"/>
                <a:lnTo>
                  <a:pt x="0" y="21607"/>
                </a:lnTo>
                <a:arcTo wR="0" hR="0" stAng="10800000" swAng="-5400000"/>
                <a:lnTo>
                  <a:pt x="21600" y="2160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83280" y="836640"/>
            <a:ext cx="1079640" cy="107964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HY견고딕"/>
                <a:ea typeface="HY견고딕"/>
              </a:rPr>
              <a:t>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141720"/>
            <a:ext cx="6705720" cy="53496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II</a:t>
            </a: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.  </a:t>
            </a:r>
            <a:r>
              <a:rPr b="0" lang="zh-CN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서비스산업의 구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4076640"/>
            <a:ext cx="6705720" cy="51444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III</a:t>
            </a: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서비스산업의 문제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75000" y="4941720"/>
            <a:ext cx="6705360" cy="50328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IV</a:t>
            </a:r>
            <a:r>
              <a:rPr b="0" lang="en-US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. </a:t>
            </a:r>
            <a:r>
              <a:rPr b="0" lang="zh-CN" sz="2800" spc="-1" strike="noStrike">
                <a:solidFill>
                  <a:srgbClr val="ffffcc"/>
                </a:solidFill>
                <a:latin typeface="HY견고딕"/>
                <a:ea typeface="HY견고딕"/>
              </a:rPr>
              <a:t>정책과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수요창출의 문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3284640"/>
            <a:ext cx="798660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중소기업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낮은 수익성으로 외부 사업서비스에 대한 구매가 저조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741840"/>
            <a:ext cx="7986600" cy="479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역으로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업서비스의 아웃소싱 부진은 중소기업의 생산성 저하 요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284640"/>
            <a:ext cx="4572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8240" y="1197000"/>
            <a:ext cx="79804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과도한 공공성 규제는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소비자 선택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제약시켜 수요확대에 장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68240" y="1654200"/>
            <a:ext cx="7980480" cy="12700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료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등 사회서비스에서 형평성과 공공성이 혼동된 상태에서 규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취약계층에 대한 서비스 공급은 재정으로 해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시장의 작동을 저해하지 않아야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상품에 관한 소비자들의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정보접근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차단으로 시장의 확대가 제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(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예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의료 및 법률산업 등에 대한 광고 금지 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39640" y="1197000"/>
            <a:ext cx="45576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68240" y="4581360"/>
            <a:ext cx="79804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소한 국내시장에도 불구하고 서비스산업의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해외진출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취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8240" y="5038560"/>
            <a:ext cx="7980480" cy="10544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해외 현지시장을 이해하는 전문인력의 양성이 부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국제대학원 교육은 기업경영 또는 직업적 전문가 양성과 유리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국내 거주 외국인을 발판으로 한 해외 현지시장 진출 전략도 부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4581360"/>
            <a:ext cx="4557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292720" y="3068640"/>
            <a:ext cx="3848040" cy="78588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IV.  </a:t>
            </a:r>
            <a:r>
              <a:rPr b="0" lang="zh-CN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정책과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AutoShape 2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새로운 성장동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762120" y="1066680"/>
            <a:ext cx="777240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은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내수 활성화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통한 위기극복의 핵심적 정책수단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762120" y="1523880"/>
            <a:ext cx="7772400" cy="11430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의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성숙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및 국제경쟁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 증가가 낮을 때 생산성 증가 경향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은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성장단계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생산성 높은 업종에서 고용이 확대되는 경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의 성장으로 고용 창출과 경제성장을 동시에 달성 가능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Oval 6"/>
          <p:cNvSpPr/>
          <p:nvPr/>
        </p:nvSpPr>
        <p:spPr>
          <a:xfrm>
            <a:off x="533520" y="106668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380880" y="3048120"/>
            <a:ext cx="388620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고용과 생산성 관계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제조업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4800600" y="3048120"/>
            <a:ext cx="388620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고용과 생산성 관계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서비스업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7" name="Object 9"/>
          <p:cNvGraphicFramePr/>
          <p:nvPr/>
        </p:nvGraphicFramePr>
        <p:xfrm>
          <a:off x="4419720" y="3581280"/>
          <a:ext cx="4495680" cy="31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3581280"/>
                    <a:ext cx="44956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10"/>
          <p:cNvGraphicFramePr/>
          <p:nvPr/>
        </p:nvGraphicFramePr>
        <p:xfrm>
          <a:off x="0" y="3809880"/>
          <a:ext cx="4267080" cy="3057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6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809880"/>
                    <a:ext cx="426708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3"/>
          <p:cNvSpPr/>
          <p:nvPr/>
        </p:nvSpPr>
        <p:spPr>
          <a:xfrm>
            <a:off x="541440" y="4869000"/>
            <a:ext cx="8351640" cy="46800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업현장의 수요에 적합한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인력양성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가장 핵심적 과제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541440" y="5326200"/>
            <a:ext cx="8351640" cy="1127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3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문직업대학원체제 수립 및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실무경험 교수진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의무 확보로 교육의 질 향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기관 설립 및 교과과정 개편에 관한 대학의 자율권 존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대학의 경쟁체제 확립 및 교수 재임용제의 실질적 실시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취업률 공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324000" y="4870440"/>
            <a:ext cx="4572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6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의 경쟁력 강화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AutoShape 7"/>
          <p:cNvSpPr/>
          <p:nvPr/>
        </p:nvSpPr>
        <p:spPr>
          <a:xfrm>
            <a:off x="533520" y="1147680"/>
            <a:ext cx="83818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상품의 품질이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소비자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평가 받도록 규제개혁 추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533520" y="1604880"/>
            <a:ext cx="8381880" cy="11764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법률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료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등에서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공공성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이유로 하는 정치적 관점의 규제 제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의 인력공급을 인위적으로 제한하는 각종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자격시험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제도의 재검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집단이기주의를 조장하는 일부 정치인들에 대한 제도적 개선방안 마련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val 9"/>
          <p:cNvSpPr/>
          <p:nvPr/>
        </p:nvSpPr>
        <p:spPr>
          <a:xfrm>
            <a:off x="304920" y="114768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539640" y="3573360"/>
            <a:ext cx="8382240" cy="86364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의료기관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으로의 자본 유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의료 전문경영인 영입 등을 위한 관련제도 개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체에 관한 금융기관의 대출심사능력 제고 방안 모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11"/>
          <p:cNvSpPr/>
          <p:nvPr/>
        </p:nvSpPr>
        <p:spPr>
          <a:xfrm>
            <a:off x="511200" y="3103560"/>
            <a:ext cx="83818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으로의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자본공급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확대를 유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12"/>
          <p:cNvSpPr/>
          <p:nvPr/>
        </p:nvSpPr>
        <p:spPr>
          <a:xfrm>
            <a:off x="293760" y="3103560"/>
            <a:ext cx="44460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3"/>
          <p:cNvSpPr/>
          <p:nvPr/>
        </p:nvSpPr>
        <p:spPr>
          <a:xfrm>
            <a:off x="8775000" y="4392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의 경쟁력 강화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479520" y="1268280"/>
            <a:ext cx="83818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업의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연구개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활동에 대한 정부지원 확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79520" y="1725480"/>
            <a:ext cx="8381880" cy="8398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에 국한되어 있는 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국가연구개발 지원사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서비스산업으로 확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0160" indent="-20016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광고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방송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디자인 등에서 공동활용될 수 있는 소비자분석 기초연구의 활성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250920" y="126828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7"/>
          <p:cNvSpPr/>
          <p:nvPr/>
        </p:nvSpPr>
        <p:spPr>
          <a:xfrm>
            <a:off x="552600" y="4653000"/>
            <a:ext cx="83404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을 내수시장에서 탈피하여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수출산업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으로 육성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552600" y="5110200"/>
            <a:ext cx="8340480" cy="1127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해외진출이 활성화될 수 있도록 서비스업체의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대형화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 유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외국어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국제상거래 등에 정통한 전문인력 육성 및 외국인 인재의 적극 활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국가 이미지 제고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정치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노동운동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질서 등의 품격 제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9"/>
          <p:cNvSpPr/>
          <p:nvPr/>
        </p:nvSpPr>
        <p:spPr>
          <a:xfrm>
            <a:off x="324000" y="465300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8794080" y="-360"/>
            <a:ext cx="36648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552600" y="2781360"/>
            <a:ext cx="834048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업서비스 등의 </a:t>
            </a:r>
            <a:r>
              <a:rPr b="0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아웃소싱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촉진을 위한 정책적 지원방안 마련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52600" y="3238560"/>
            <a:ext cx="8340480" cy="112716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기업의 자회사 설립 제한 조치를 통해 </a:t>
            </a: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공공부문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민간서비스 구매 확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중소기업 생산성 제고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 통해 사업서비스 등의 아웃소싱 구매를 확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정거래 정책의 강화를 통해 중소 서비스업체에 대한 부당한 가격 방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6"/>
          <p:cNvSpPr/>
          <p:nvPr/>
        </p:nvSpPr>
        <p:spPr>
          <a:xfrm>
            <a:off x="324000" y="2781360"/>
            <a:ext cx="4316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3282840" y="3047040"/>
            <a:ext cx="256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 </a:t>
            </a:r>
            <a:r>
              <a:rPr b="0" lang="zh-CN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감사합니다 </a:t>
            </a:r>
            <a:r>
              <a:rPr b="0" lang="en-US" sz="4400" spc="-1" strike="noStrike">
                <a:solidFill>
                  <a:srgbClr val="ff6600"/>
                </a:solidFill>
                <a:latin typeface="HY견고딕"/>
                <a:ea typeface="HY견고딕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4284720" y="3068640"/>
            <a:ext cx="4856040" cy="78588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I. </a:t>
            </a:r>
            <a:r>
              <a:rPr b="0" lang="zh-CN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서비스산업의 위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2"/>
          <p:cNvSpPr/>
          <p:nvPr/>
        </p:nvSpPr>
        <p:spPr>
          <a:xfrm>
            <a:off x="552600" y="1066680"/>
            <a:ext cx="826740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제조업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성장은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90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대 하락하는 추세이었으나 외환위기 이후 반등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539640" y="1523880"/>
            <a:ext cx="8283600" cy="91440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의 산업구조조정이 기술집약적 산업으로 성공한 결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5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서비스산업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부가가치 증가율은 외환위기 이후에도 여전히 하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경제성장의 둔화와 서비스산업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9"/>
          <p:cNvSpPr/>
          <p:nvPr/>
        </p:nvSpPr>
        <p:spPr>
          <a:xfrm>
            <a:off x="398520" y="3200400"/>
            <a:ext cx="388620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제조업의 부가가치 증가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0"/>
          <p:cNvSpPr/>
          <p:nvPr/>
        </p:nvSpPr>
        <p:spPr>
          <a:xfrm>
            <a:off x="4876920" y="3200400"/>
            <a:ext cx="388620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서비스업의 부가가치 증가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533520" y="6585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주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: 3</a:t>
            </a:r>
            <a:r>
              <a:rPr b="0" lang="zh-CN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이동평균치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4952880" y="6585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주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: 3</a:t>
            </a:r>
            <a:r>
              <a:rPr b="0" lang="zh-CN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이동평균치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3"/>
          <p:cNvSpPr/>
          <p:nvPr/>
        </p:nvSpPr>
        <p:spPr>
          <a:xfrm>
            <a:off x="1187280" y="2438280"/>
            <a:ext cx="7632720" cy="457200"/>
          </a:xfrm>
          <a:prstGeom prst="roundRect">
            <a:avLst>
              <a:gd name="adj" fmla="val 0"/>
            </a:avLst>
          </a:prstGeom>
          <a:solidFill>
            <a:srgbClr val="ffffd3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외환위기 이후 경제성장의 둔화는 상당부분 서비스산업의 침체에 기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4"/>
          <p:cNvSpPr/>
          <p:nvPr/>
        </p:nvSpPr>
        <p:spPr>
          <a:xfrm>
            <a:off x="539640" y="2438280"/>
            <a:ext cx="533520" cy="381240"/>
          </a:xfrm>
          <a:prstGeom prst="rightArrow">
            <a:avLst>
              <a:gd name="adj1" fmla="val 50000"/>
              <a:gd name="adj2" fmla="val 34986"/>
            </a:avLst>
          </a:prstGeom>
          <a:solidFill>
            <a:srgbClr val="ff99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886896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427640" y="3645000"/>
          <a:ext cx="4608360" cy="309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645000"/>
                    <a:ext cx="460836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324000" y="1052640"/>
            <a:ext cx="444240" cy="431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27000" y="3645000"/>
          <a:ext cx="4454640" cy="3097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7000" y="3645000"/>
                    <a:ext cx="4454640" cy="30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AutoShape 2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경제성장의 둔화와 서비스산업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"/>
          <p:cNvSpPr/>
          <p:nvPr/>
        </p:nvSpPr>
        <p:spPr>
          <a:xfrm>
            <a:off x="466560" y="1058760"/>
            <a:ext cx="838224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의</a:t>
            </a:r>
            <a:r>
              <a:rPr b="0" lang="en-US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 경쟁력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 낮은 수준에서 개방되어 해외구매로 유출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66560" y="1515960"/>
            <a:ext cx="8382240" cy="12193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외환위기 이후 경제개방의 확대로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해외 서비스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구매 기회가 확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07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서비스수지 적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06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억 달러는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GDP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1%</a:t>
            </a:r>
            <a:r>
              <a:rPr b="0" lang="zh-CN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달하는 수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3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개방 이전의 강제적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Trickling-Down Effect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기대하기 어려운 여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>
            <a:off x="228600" y="1058760"/>
            <a:ext cx="46656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1916280" y="3068640"/>
            <a:ext cx="5464080" cy="4572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HY견고딕"/>
                <a:ea typeface="HY견고딕"/>
              </a:rPr>
              <a:t>GDP</a:t>
            </a:r>
            <a:r>
              <a:rPr b="0" lang="zh-CN" sz="2000" spc="-1" strike="noStrike">
                <a:solidFill>
                  <a:srgbClr val="ffff66"/>
                </a:solidFill>
                <a:latin typeface="HY견고딕"/>
                <a:ea typeface="HY견고딕"/>
              </a:rPr>
              <a:t>대비 서비스산업의 수출 및 수입 비중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Object 14"/>
          <p:cNvGraphicFramePr/>
          <p:nvPr/>
        </p:nvGraphicFramePr>
        <p:xfrm>
          <a:off x="108000" y="3429000"/>
          <a:ext cx="8569440" cy="338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429000"/>
                    <a:ext cx="85694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경제구조와 서비스산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52600" y="1125360"/>
            <a:ext cx="826740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국의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GDP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 서비스산업 비중은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OECD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국가중에서 </a:t>
            </a:r>
            <a:r>
              <a:rPr b="0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최하위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1332000" y="2708280"/>
            <a:ext cx="669600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OECD 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국가별  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GDP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중 서비스산업의 비중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06</a:t>
            </a:r>
            <a:r>
              <a:rPr b="0" lang="zh-CN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년</a:t>
            </a:r>
            <a:r>
              <a:rPr b="0" lang="en-US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08000" y="3068640"/>
          <a:ext cx="8856720" cy="374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3068640"/>
                    <a:ext cx="885672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Rectangle 4"/>
          <p:cNvSpPr/>
          <p:nvPr/>
        </p:nvSpPr>
        <p:spPr>
          <a:xfrm>
            <a:off x="552600" y="1557360"/>
            <a:ext cx="8267400" cy="5032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그러나 제조업의 비중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28.0%, 06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년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은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OECD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국가중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042920" y="2060640"/>
            <a:ext cx="7777080" cy="457200"/>
          </a:xfrm>
          <a:prstGeom prst="roundRect">
            <a:avLst>
              <a:gd name="adj" fmla="val 0"/>
            </a:avLst>
          </a:prstGeom>
          <a:solidFill>
            <a:srgbClr val="ffffd3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조업 수출의 편향된 구조로는 </a:t>
            </a:r>
            <a:r>
              <a:rPr b="0" lang="zh-CN" sz="1800" spc="-1" strike="noStrike">
                <a:solidFill>
                  <a:srgbClr val="ff6600"/>
                </a:solidFill>
                <a:latin typeface="HY견고딕"/>
                <a:ea typeface="HY견고딕"/>
              </a:rPr>
              <a:t>글로벌 위기극복</a:t>
            </a: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애로가 발생할 가능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539640" y="2060640"/>
            <a:ext cx="432000" cy="380880"/>
          </a:xfrm>
          <a:prstGeom prst="rightArrow">
            <a:avLst>
              <a:gd name="adj1" fmla="val 50000"/>
              <a:gd name="adj2" fmla="val 28355"/>
            </a:avLst>
          </a:prstGeom>
          <a:solidFill>
            <a:srgbClr val="ff99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46512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 rot="5400000">
            <a:off x="8100720" y="4292640"/>
            <a:ext cx="647640" cy="215640"/>
          </a:xfrm>
          <a:prstGeom prst="rightArrow">
            <a:avLst>
              <a:gd name="adj1" fmla="val 50000"/>
              <a:gd name="adj2" fmla="val 75083"/>
            </a:avLst>
          </a:prstGeom>
          <a:solidFill>
            <a:srgbClr val="ff00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3995640" y="3068640"/>
            <a:ext cx="5145120" cy="720720"/>
          </a:xfrm>
          <a:prstGeom prst="roundRect">
            <a:avLst>
              <a:gd name="adj" fmla="val 0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II.  </a:t>
            </a:r>
            <a:r>
              <a:rPr b="0" lang="zh-CN" sz="3200" spc="-1" strike="noStrike">
                <a:solidFill>
                  <a:srgbClr val="ffffcc"/>
                </a:solidFill>
                <a:latin typeface="HY견고딕"/>
                <a:ea typeface="HY견고딕"/>
              </a:rPr>
              <a:t>서비스산업의 구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2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 분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3"/>
          <p:cNvSpPr/>
          <p:nvPr/>
        </p:nvSpPr>
        <p:spPr>
          <a:xfrm>
            <a:off x="466560" y="1130400"/>
            <a:ext cx="8382240" cy="49824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산업의 유형별 분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HY견고딕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6"/>
          <p:cNvSpPr/>
          <p:nvPr/>
        </p:nvSpPr>
        <p:spPr>
          <a:xfrm>
            <a:off x="228600" y="1130400"/>
            <a:ext cx="466560" cy="498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4508640"/>
            <a:ext cx="2590560" cy="79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5300640"/>
            <a:ext cx="2590560" cy="7923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794200" y="4508640"/>
            <a:ext cx="2738520" cy="792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6000" y="5300640"/>
            <a:ext cx="2736720" cy="79236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06920" y="4653000"/>
            <a:ext cx="1871640" cy="504720"/>
          </a:xfrm>
          <a:prstGeom prst="ellipse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780000" y="4797360"/>
            <a:ext cx="151272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생산자 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922560" y="5516640"/>
            <a:ext cx="129708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유통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6589800" y="4795920"/>
            <a:ext cx="129528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6445080" y="5516640"/>
            <a:ext cx="1511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소비자서비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3419640" y="3573360"/>
            <a:ext cx="201600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생산활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6156360" y="3573360"/>
            <a:ext cx="187164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소비활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612720" y="4722840"/>
            <a:ext cx="179856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지식기반</a:t>
            </a:r>
            <a:r>
              <a:rPr b="0" lang="en-US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(</a:t>
            </a: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고</a:t>
            </a:r>
            <a:r>
              <a:rPr b="0" lang="en-US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612720" y="5516640"/>
            <a:ext cx="1798560" cy="360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지식기반</a:t>
            </a:r>
            <a:r>
              <a:rPr b="0" lang="en-US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(</a:t>
            </a:r>
            <a:r>
              <a:rPr b="0" lang="zh-CN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저</a:t>
            </a:r>
            <a:r>
              <a:rPr b="0" lang="en-US" sz="1800" spc="-1" strike="noStrike">
                <a:solidFill>
                  <a:srgbClr val="ffff66"/>
                </a:solidFill>
                <a:latin typeface="HY견고딕"/>
                <a:ea typeface="HY견고딕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468360" y="1628640"/>
            <a:ext cx="8351640" cy="151308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0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유통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도매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소매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물류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창고업 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소비자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음식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숙박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미용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세탁 등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생산자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업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법률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회계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디자인 등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금융업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임대업 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서비스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료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행정 등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4005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77080" y="4005360"/>
            <a:ext cx="503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56000" y="4653000"/>
            <a:ext cx="4316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5445000"/>
            <a:ext cx="431640" cy="50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9144000" cy="792000"/>
          </a:xfrm>
          <a:prstGeom prst="roundRect">
            <a:avLst>
              <a:gd name="adj" fmla="val 0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ZapfDingbats"/>
                <a:ea typeface="ZapfDingbats"/>
              </a:rPr>
              <a:t>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서비스산업의  구조</a:t>
            </a:r>
            <a:r>
              <a:rPr b="0" lang="en-US" sz="2800" spc="-1" strike="noStrike">
                <a:solidFill>
                  <a:srgbClr val="ffffff"/>
                </a:solidFill>
                <a:latin typeface="HY견고딕"/>
                <a:ea typeface="HY견고딕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1125360"/>
            <a:ext cx="7913520" cy="468360"/>
          </a:xfrm>
          <a:prstGeom prst="roundRect">
            <a:avLst>
              <a:gd name="adj" fmla="val 0"/>
            </a:avLst>
          </a:prstGeom>
          <a:solidFill>
            <a:srgbClr val="e9f4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생산성이 낮은 도소매업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음식숙박업 등의 비중이 높은 구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840520" y="-360"/>
            <a:ext cx="273600" cy="3373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33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  <a:ea typeface="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125360"/>
            <a:ext cx="444240" cy="432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1187280" y="2611440"/>
            <a:ext cx="7272360" cy="457200"/>
          </a:xfrm>
          <a:prstGeom prst="roundRect">
            <a:avLst>
              <a:gd name="adj" fmla="val 50000"/>
            </a:avLst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주요국의 도소매업 및 음식숙박업 비중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고용 기준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, 06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년</a:t>
            </a:r>
            <a:r>
              <a:rPr b="0" lang="ko-KR" sz="2000" spc="-1" strike="noStrike">
                <a:solidFill>
                  <a:srgbClr val="ffff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2997360"/>
          <a:ext cx="8280360" cy="374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997360"/>
                    <a:ext cx="8280360" cy="37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4"/>
          <p:cNvSpPr/>
          <p:nvPr/>
        </p:nvSpPr>
        <p:spPr>
          <a:xfrm>
            <a:off x="768240" y="1593720"/>
            <a:ext cx="7907400" cy="720720"/>
          </a:xfrm>
          <a:prstGeom prst="rect">
            <a:avLst/>
          </a:prstGeom>
          <a:solidFill>
            <a:srgbClr val="ffffff"/>
          </a:solidFill>
          <a:ln w="324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84120" indent="-199800">
              <a:lnSpc>
                <a:spcPct val="120000"/>
              </a:lnSpc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저생산성 업종의 높은 비중은 전체 서비스업의 생산성을 낮추는 요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1998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안전망 취약과 재훈련체계의 미비로 </a:t>
            </a:r>
            <a:r>
              <a:rPr b="0" lang="ko-KR" sz="1600" spc="-1" strike="noStrike">
                <a:solidFill>
                  <a:srgbClr val="ff6600"/>
                </a:solidFill>
                <a:latin typeface="HY견고딕"/>
                <a:ea typeface="HY견고딕"/>
              </a:rPr>
              <a:t>저숙련 인력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들의 고용 피난처 역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1T06:46:16Z</dcterms:created>
  <dc:creator>하성준</dc:creator>
  <dc:description/>
  <dc:language>en-US</dc:language>
  <cp:lastModifiedBy>Owner</cp:lastModifiedBy>
  <cp:lastPrinted>2004-11-03T01:20:13Z</cp:lastPrinted>
  <dcterms:modified xsi:type="dcterms:W3CDTF">2009-03-09T04:15:23Z</dcterms:modified>
  <cp:revision>886</cp:revision>
  <dc:subject/>
  <dc:title>에너지 고위 경영자과정 강연자료</dc:title>
</cp:coreProperties>
</file>